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5F9F-831E-4B9E-9C8E-302C41A3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7B58-E807-4281-A3F0-0DD9CFCB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CFCD-5112-41EB-A102-236E5B3E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FC89-D0CF-4E26-A8C9-32552E9D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A6A2-A442-4A95-B26C-25C550FA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9057-8701-4D06-9B06-74C2FAD8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DF70-AA6C-47A0-8E0F-9725D05C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B5FA-1ABF-423C-9CB9-A01E1AC8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599D-AED5-4D1E-8001-8497F0F9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DAA1-126E-417F-9F2F-A1CA2AE4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473B-A8AB-4B9E-A64D-FD4E301C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516D-F16D-4911-B682-8DF7D8DC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7804-07B8-4ED2-B393-FE7013A9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1CC2-65E9-422B-97F6-9013EAB2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551A-9C76-4532-A312-BE601CB9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6260-CD80-4DA7-866D-6B2E7A8F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043D-FF1E-4E74-AE79-64A69C1C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34C8-C044-4587-9E04-D2217622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2841-95A5-4DE2-80F0-D1D68BB5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EF05-9142-41B1-BF3D-C6E2E443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FDB-7E87-4726-8BFE-3969C059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1BE8-D144-4F86-9AA7-580488A4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96AD-178E-4759-AF89-1396E1A8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BBC-2561-4E49-AC0F-96C5B148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8A4E-7481-466B-AA87-9BACB119E1A8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2DF2-F9E5-4321-A39B-61F0215944F9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38.xml"/><Relationship Id="rId10" Type="http://schemas.openxmlformats.org/officeDocument/2006/relationships/slide" Target="slide38.xml"/><Relationship Id="rId11" Type="http://schemas.openxmlformats.org/officeDocument/2006/relationships/slide" Target="slide56.xml"/><Relationship Id="rId12" Type="http://schemas.openxmlformats.org/officeDocument/2006/relationships/slide" Target="slide56.xml"/><Relationship Id="rId13" Type="http://schemas.openxmlformats.org/officeDocument/2006/relationships/slide" Target="slide63.xml"/><Relationship Id="rId14" Type="http://schemas.openxmlformats.org/officeDocument/2006/relationships/slide" Target="slide63.xml"/><Relationship Id="rId15" Type="http://schemas.openxmlformats.org/officeDocument/2006/relationships/slide" Target="slide33.xml"/><Relationship Id="rId16" Type="http://schemas.openxmlformats.org/officeDocument/2006/relationships/slide" Target="slide33.xml"/><Relationship Id="rId17" Type="http://schemas.openxmlformats.org/officeDocument/2006/relationships/slide" Target="slide82.xml"/><Relationship Id="rId1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8.xm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6.xml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3.xml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409760" y="2379600"/>
            <a:ext cx="632448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1.3 Construction Draw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5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A and draw an arc that crosses the line in 2 pl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280120" y="3071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le a line and measure 5 cm along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"/>
          <p:cNvSpPr/>
          <p:nvPr/>
        </p:nvSpPr>
        <p:spPr>
          <a:xfrm>
            <a:off x="5342040" y="480528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70060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605808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642924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678672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5342040" y="4976280"/>
            <a:ext cx="2519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5051520" y="4630680"/>
            <a:ext cx="240804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30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9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3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7" dur="1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1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5" dur="10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0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260960" y="3884760"/>
            <a:ext cx="2158920" cy="2158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the compass to 3cm and draw an arc above the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4" name=""/>
          <p:cNvGrpSpPr/>
          <p:nvPr/>
        </p:nvGrpSpPr>
        <p:grpSpPr>
          <a:xfrm>
            <a:off x="5192640" y="4835520"/>
            <a:ext cx="287280" cy="288720"/>
            <a:chOff x="5192640" y="4835520"/>
            <a:chExt cx="287280" cy="288720"/>
          </a:xfrm>
        </p:grpSpPr>
        <p:sp>
          <p:nvSpPr>
            <p:cNvPr id="1905" name=""/>
            <p:cNvSpPr/>
            <p:nvPr/>
          </p:nvSpPr>
          <p:spPr>
            <a:xfrm>
              <a:off x="5337000" y="48355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192640" y="49798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2" dur="2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5" dur="20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8" dur="20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8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the compass to 4cm and draw an arc above the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2" name=""/>
          <p:cNvGrpSpPr/>
          <p:nvPr/>
        </p:nvGrpSpPr>
        <p:grpSpPr>
          <a:xfrm>
            <a:off x="6991200" y="4835520"/>
            <a:ext cx="287280" cy="288720"/>
            <a:chOff x="6991200" y="4835520"/>
            <a:chExt cx="287280" cy="288720"/>
          </a:xfrm>
        </p:grpSpPr>
        <p:sp>
          <p:nvSpPr>
            <p:cNvPr id="1913" name=""/>
            <p:cNvSpPr/>
            <p:nvPr/>
          </p:nvSpPr>
          <p:spPr>
            <a:xfrm>
              <a:off x="7135560" y="48355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991200" y="49798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5" name=""/>
          <p:cNvSpPr/>
          <p:nvPr/>
        </p:nvSpPr>
        <p:spPr>
          <a:xfrm>
            <a:off x="5683320" y="3541680"/>
            <a:ext cx="2879640" cy="2879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5979960" y="5791320"/>
            <a:ext cx="25257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7561440" y="3556080"/>
            <a:ext cx="103176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6256440" y="3454560"/>
            <a:ext cx="13777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5684760" y="3543480"/>
            <a:ext cx="2879640" cy="2879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2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1" dur="30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4" dur="3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7" dur="2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0" dur="2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3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 the 2 end points to the intersection of the ar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7" name=""/>
          <p:cNvSpPr/>
          <p:nvPr/>
        </p:nvSpPr>
        <p:spPr>
          <a:xfrm>
            <a:off x="5683320" y="35416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979960" y="5791320"/>
            <a:ext cx="25257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7561440" y="3556080"/>
            <a:ext cx="103176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6256440" y="3454560"/>
            <a:ext cx="13777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V="1">
            <a:off x="5326200" y="4092120"/>
            <a:ext cx="653760" cy="8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5994360" y="4106520"/>
            <a:ext cx="1146240" cy="8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8" dur="20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3" dur="20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6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scalene (3,4,5) triang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"/>
          <p:cNvSpPr/>
          <p:nvPr/>
        </p:nvSpPr>
        <p:spPr>
          <a:xfrm>
            <a:off x="5683320" y="35416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979960" y="5791320"/>
            <a:ext cx="25257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7561440" y="3556080"/>
            <a:ext cx="103176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256440" y="3454560"/>
            <a:ext cx="13777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V="1">
            <a:off x="5326200" y="4092120"/>
            <a:ext cx="653760" cy="88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 flipH="1" flipV="1">
            <a:off x="5994360" y="4106520"/>
            <a:ext cx="1146240" cy="87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rotation you need 3 thing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nt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 arou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ay how far to 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tate the triangle ABC, 90° around point 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6910560" y="2460600"/>
            <a:ext cx="55440" cy="13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6332400" y="20970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entre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 flipH="1" flipV="1">
            <a:off x="6172200" y="3455640"/>
            <a:ext cx="295200" cy="17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5243400" y="5176800"/>
            <a:ext cx="27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 object to Ro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6012000" y="119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6315120" y="119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6659640" y="119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5364000" y="191628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5364000" y="234936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5364000" y="278136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5364000" y="314172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5364000" y="386064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5364000" y="350028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otation should look something like thi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5" name=""/>
          <p:cNvGrpSpPr/>
          <p:nvPr/>
        </p:nvGrpSpPr>
        <p:grpSpPr>
          <a:xfrm>
            <a:off x="5994360" y="1930320"/>
            <a:ext cx="1988640" cy="3903840"/>
            <a:chOff x="5994360" y="1930320"/>
            <a:chExt cx="1988640" cy="3903840"/>
          </a:xfrm>
        </p:grpSpPr>
        <p:sp>
          <p:nvSpPr>
            <p:cNvPr id="1986" name=""/>
            <p:cNvSpPr/>
            <p:nvPr/>
          </p:nvSpPr>
          <p:spPr>
            <a:xfrm>
              <a:off x="6012360" y="1936800"/>
              <a:ext cx="650880" cy="19368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994360" y="1930320"/>
              <a:ext cx="1988640" cy="39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8" name=""/>
          <p:cNvSpPr/>
          <p:nvPr/>
        </p:nvSpPr>
        <p:spPr>
          <a:xfrm>
            <a:off x="602604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rot="5400000">
            <a:off x="7634160" y="225252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081840" y="1930320"/>
            <a:ext cx="2728800" cy="885960"/>
          </a:xfrm>
          <a:custGeom>
            <a:avLst/>
            <a:gdLst/>
            <a:ahLst/>
            <a:rect l="l" t="t" r="r" b="b"/>
            <a:pathLst>
              <a:path w="1719" h="558">
                <a:moveTo>
                  <a:pt x="0" y="0"/>
                </a:moveTo>
                <a:cubicBezTo>
                  <a:pt x="357" y="5"/>
                  <a:pt x="527" y="5"/>
                  <a:pt x="832" y="37"/>
                </a:cubicBezTo>
                <a:cubicBezTo>
                  <a:pt x="928" y="47"/>
                  <a:pt x="1011" y="81"/>
                  <a:pt x="1097" y="119"/>
                </a:cubicBezTo>
                <a:cubicBezTo>
                  <a:pt x="1123" y="131"/>
                  <a:pt x="1152" y="137"/>
                  <a:pt x="1179" y="146"/>
                </a:cubicBezTo>
                <a:cubicBezTo>
                  <a:pt x="1188" y="149"/>
                  <a:pt x="1207" y="155"/>
                  <a:pt x="1207" y="155"/>
                </a:cubicBezTo>
                <a:cubicBezTo>
                  <a:pt x="1250" y="185"/>
                  <a:pt x="1223" y="170"/>
                  <a:pt x="1289" y="192"/>
                </a:cubicBezTo>
                <a:cubicBezTo>
                  <a:pt x="1298" y="195"/>
                  <a:pt x="1307" y="198"/>
                  <a:pt x="1316" y="201"/>
                </a:cubicBezTo>
                <a:cubicBezTo>
                  <a:pt x="1325" y="204"/>
                  <a:pt x="1344" y="210"/>
                  <a:pt x="1344" y="210"/>
                </a:cubicBezTo>
                <a:cubicBezTo>
                  <a:pt x="1389" y="257"/>
                  <a:pt x="1327" y="196"/>
                  <a:pt x="1399" y="247"/>
                </a:cubicBezTo>
                <a:cubicBezTo>
                  <a:pt x="1409" y="254"/>
                  <a:pt x="1416" y="266"/>
                  <a:pt x="1426" y="274"/>
                </a:cubicBezTo>
                <a:cubicBezTo>
                  <a:pt x="1476" y="316"/>
                  <a:pt x="1432" y="275"/>
                  <a:pt x="1481" y="302"/>
                </a:cubicBezTo>
                <a:cubicBezTo>
                  <a:pt x="1518" y="322"/>
                  <a:pt x="1543" y="354"/>
                  <a:pt x="1582" y="366"/>
                </a:cubicBezTo>
                <a:cubicBezTo>
                  <a:pt x="1588" y="375"/>
                  <a:pt x="1592" y="386"/>
                  <a:pt x="1600" y="393"/>
                </a:cubicBezTo>
                <a:cubicBezTo>
                  <a:pt x="1607" y="399"/>
                  <a:pt x="1620" y="395"/>
                  <a:pt x="1627" y="402"/>
                </a:cubicBezTo>
                <a:cubicBezTo>
                  <a:pt x="1643" y="418"/>
                  <a:pt x="1652" y="439"/>
                  <a:pt x="1664" y="457"/>
                </a:cubicBezTo>
                <a:cubicBezTo>
                  <a:pt x="1684" y="488"/>
                  <a:pt x="1719" y="520"/>
                  <a:pt x="1719" y="55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8674200" y="29192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6053040" y="2960640"/>
            <a:ext cx="841320" cy="871560"/>
          </a:xfrm>
          <a:custGeom>
            <a:avLst/>
            <a:gdLst/>
            <a:ahLst/>
            <a:rect l="l" t="t" r="r" b="b"/>
            <a:pathLst>
              <a:path w="530" h="549">
                <a:moveTo>
                  <a:pt x="0" y="549"/>
                </a:moveTo>
                <a:cubicBezTo>
                  <a:pt x="8" y="433"/>
                  <a:pt x="8" y="393"/>
                  <a:pt x="54" y="302"/>
                </a:cubicBezTo>
                <a:cubicBezTo>
                  <a:pt x="76" y="260"/>
                  <a:pt x="82" y="226"/>
                  <a:pt x="128" y="210"/>
                </a:cubicBezTo>
                <a:cubicBezTo>
                  <a:pt x="161" y="161"/>
                  <a:pt x="217" y="150"/>
                  <a:pt x="256" y="110"/>
                </a:cubicBezTo>
                <a:cubicBezTo>
                  <a:pt x="318" y="45"/>
                  <a:pt x="439" y="0"/>
                  <a:pt x="53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6740640" y="2611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6676920" y="3513240"/>
            <a:ext cx="246240" cy="318960"/>
          </a:xfrm>
          <a:custGeom>
            <a:avLst/>
            <a:gdLst/>
            <a:ahLst/>
            <a:rect l="l" t="t" r="r" b="b"/>
            <a:pathLst>
              <a:path w="155" h="201">
                <a:moveTo>
                  <a:pt x="0" y="201"/>
                </a:moveTo>
                <a:cubicBezTo>
                  <a:pt x="3" y="167"/>
                  <a:pt x="2" y="133"/>
                  <a:pt x="9" y="100"/>
                </a:cubicBezTo>
                <a:cubicBezTo>
                  <a:pt x="15" y="74"/>
                  <a:pt x="38" y="69"/>
                  <a:pt x="55" y="54"/>
                </a:cubicBezTo>
                <a:cubicBezTo>
                  <a:pt x="65" y="46"/>
                  <a:pt x="71" y="33"/>
                  <a:pt x="82" y="27"/>
                </a:cubicBezTo>
                <a:cubicBezTo>
                  <a:pt x="105" y="15"/>
                  <a:pt x="132" y="12"/>
                  <a:pt x="155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6856560" y="3468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638280" y="3425760"/>
            <a:ext cx="44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Now label the co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94" dur="indefinite" restart="never" nodeType="tmRoot">
          <p:childTnLst>
            <p:seq>
              <p:cTn id="1495" dur="indefinite" nodeType="mainSeq">
                <p:childTnLst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499" dur="2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9" dur="2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2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10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2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3" dur="1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8" dur="1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3" dur="1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rotation of triangle ABC 90° around 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9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"/>
          <p:cNvGrpSpPr/>
          <p:nvPr/>
        </p:nvGrpSpPr>
        <p:grpSpPr>
          <a:xfrm>
            <a:off x="5994360" y="1930320"/>
            <a:ext cx="1988640" cy="3903840"/>
            <a:chOff x="5994360" y="1930320"/>
            <a:chExt cx="1988640" cy="3903840"/>
          </a:xfrm>
        </p:grpSpPr>
        <p:sp>
          <p:nvSpPr>
            <p:cNvPr id="2006" name=""/>
            <p:cNvSpPr/>
            <p:nvPr/>
          </p:nvSpPr>
          <p:spPr>
            <a:xfrm>
              <a:off x="6012360" y="1936800"/>
              <a:ext cx="650880" cy="19368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994360" y="1930320"/>
              <a:ext cx="1988640" cy="39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8" name=""/>
          <p:cNvSpPr/>
          <p:nvPr/>
        </p:nvSpPr>
        <p:spPr>
          <a:xfrm rot="5400000">
            <a:off x="7634160" y="225252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8674200" y="29192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6740640" y="2611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6856560" y="3468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27680" y="186696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21280" y="2541600"/>
            <a:ext cx="77148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68560" y="2662200"/>
            <a:ext cx="177516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89400" y="1604880"/>
            <a:ext cx="3852720" cy="15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21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1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A and draw an arc that crosses the line in 2 pl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549760" y="3198960"/>
            <a:ext cx="287280" cy="288720"/>
            <a:chOff x="5549760" y="3198960"/>
            <a:chExt cx="287280" cy="288720"/>
          </a:xfrm>
        </p:grpSpPr>
        <p:sp>
          <p:nvSpPr>
            <p:cNvPr id="403" name=""/>
            <p:cNvSpPr/>
            <p:nvPr/>
          </p:nvSpPr>
          <p:spPr>
            <a:xfrm>
              <a:off x="5694120" y="31989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49760" y="33433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162320" y="1812960"/>
            <a:ext cx="3059280" cy="305892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276880" y="3068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927680" y="186696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921280" y="2541600"/>
            <a:ext cx="77148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68560" y="2662200"/>
            <a:ext cx="177516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289400" y="1604880"/>
            <a:ext cx="3852720" cy="15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21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1 and draw an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80120" y="3071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850160" y="2509920"/>
            <a:ext cx="6238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921280" y="2714760"/>
            <a:ext cx="77148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045200" y="3517920"/>
            <a:ext cx="287280" cy="288720"/>
            <a:chOff x="7045200" y="3517920"/>
            <a:chExt cx="287280" cy="288720"/>
          </a:xfrm>
        </p:grpSpPr>
        <p:sp>
          <p:nvSpPr>
            <p:cNvPr id="481" name=""/>
            <p:cNvSpPr/>
            <p:nvPr/>
          </p:nvSpPr>
          <p:spPr>
            <a:xfrm>
              <a:off x="7189560" y="35179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045200" y="36622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965920" y="2436840"/>
            <a:ext cx="2448000" cy="24480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44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1 and draw an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50160" y="2509920"/>
            <a:ext cx="6238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921280" y="2714760"/>
            <a:ext cx="77148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44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other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716360" y="3597120"/>
            <a:ext cx="2448000" cy="24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837560" y="2525760"/>
            <a:ext cx="82692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254560" y="2714760"/>
            <a:ext cx="167184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5783400" y="4708440"/>
            <a:ext cx="287280" cy="288720"/>
            <a:chOff x="5783400" y="4708440"/>
            <a:chExt cx="287280" cy="288720"/>
          </a:xfrm>
        </p:grpSpPr>
        <p:sp>
          <p:nvSpPr>
            <p:cNvPr id="549" name=""/>
            <p:cNvSpPr/>
            <p:nvPr/>
          </p:nvSpPr>
          <p:spPr>
            <a:xfrm>
              <a:off x="5927760" y="47084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83400" y="4852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8156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other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4714920" y="3608280"/>
            <a:ext cx="2448000" cy="2448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1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4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16360" y="359712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837560" y="2525760"/>
            <a:ext cx="82692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54560" y="2714760"/>
            <a:ext cx="167184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28156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021280" y="2641680"/>
            <a:ext cx="2773440" cy="290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where the arcs from 1 and 2 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rpendicular Line Through Point 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716360" y="359712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837560" y="2525760"/>
            <a:ext cx="82692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54560" y="2714760"/>
            <a:ext cx="167184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28156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021280" y="2641680"/>
            <a:ext cx="2773440" cy="290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1000" autoRev="1" fill="hold"/>
                                        <p:tgtEl>
                                          <p:spTgt spid="6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sect the angle BA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at A and Draw 2 arcs that cross each of the arms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3332160" y="262260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3317760" y="2608200"/>
            <a:ext cx="23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3335400" y="3357720"/>
            <a:ext cx="2306520" cy="63792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67" h="21600">
                <a:moveTo>
                  <a:pt x="0" y="0"/>
                </a:moveTo>
                <a:lnTo>
                  <a:pt x="78067" y="0"/>
                </a:lnTo>
                <a:lnTo>
                  <a:pt x="78067" y="21600"/>
                </a:lnTo>
                <a:lnTo>
                  <a:pt x="0" y="21600"/>
                </a:lnTo>
                <a:close/>
              </a:path>
              <a:path fill="lightenLess" w="78067" h="21600">
                <a:moveTo>
                  <a:pt x="0" y="0"/>
                </a:moveTo>
                <a:lnTo>
                  <a:pt x="78067" y="0"/>
                </a:lnTo>
                <a:lnTo>
                  <a:pt x="76667" y="1400"/>
                </a:lnTo>
                <a:lnTo>
                  <a:pt x="1400" y="1400"/>
                </a:lnTo>
                <a:close/>
              </a:path>
              <a:path fill="darken" w="78067" h="21600">
                <a:moveTo>
                  <a:pt x="78067" y="0"/>
                </a:moveTo>
                <a:lnTo>
                  <a:pt x="78067" y="21600"/>
                </a:lnTo>
                <a:lnTo>
                  <a:pt x="76667" y="20200"/>
                </a:lnTo>
                <a:lnTo>
                  <a:pt x="76667" y="1400"/>
                </a:lnTo>
                <a:close/>
              </a:path>
              <a:path fill="darkenLess" w="78067" h="21600">
                <a:moveTo>
                  <a:pt x="78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7" y="20200"/>
                </a:lnTo>
                <a:close/>
              </a:path>
              <a:path fill="lighten" w="78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4" action="ppaction://hlinksldjump"/>
          </p:cNvPr>
          <p:cNvSpPr/>
          <p:nvPr/>
        </p:nvSpPr>
        <p:spPr>
          <a:xfrm>
            <a:off x="3321000" y="3328920"/>
            <a:ext cx="23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erp. Line through a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5" action="ppaction://hlinksldjump"/>
          </p:cNvPr>
          <p:cNvSpPr/>
          <p:nvPr/>
        </p:nvSpPr>
        <p:spPr>
          <a:xfrm>
            <a:off x="3341520" y="5194440"/>
            <a:ext cx="2306880" cy="423720"/>
          </a:xfrm>
          <a:custGeom>
            <a:avLst/>
            <a:gdLst>
              <a:gd name="textAreaLeft" fmla="*/ 27360 w 2306880"/>
              <a:gd name="textAreaRight" fmla="*/ 2279520 w 2306880"/>
              <a:gd name="textAreaTop" fmla="*/ 27360 h 423720"/>
              <a:gd name="textAreaBottom" fmla="*/ 396360 h 423720"/>
            </a:gdLst>
            <a:ahLst/>
            <a:rect l="textAreaLeft" t="textAreaTop" r="textAreaRight" b="textAreaBottom"/>
            <a:pathLst>
              <a:path w="117516" h="21600">
                <a:moveTo>
                  <a:pt x="0" y="0"/>
                </a:moveTo>
                <a:lnTo>
                  <a:pt x="117516" y="0"/>
                </a:lnTo>
                <a:lnTo>
                  <a:pt x="117516" y="21600"/>
                </a:lnTo>
                <a:lnTo>
                  <a:pt x="0" y="21600"/>
                </a:lnTo>
                <a:close/>
              </a:path>
              <a:path fill="lightenLess" w="117516" h="21600">
                <a:moveTo>
                  <a:pt x="0" y="0"/>
                </a:moveTo>
                <a:lnTo>
                  <a:pt x="117516" y="0"/>
                </a:lnTo>
                <a:lnTo>
                  <a:pt x="116117" y="1400"/>
                </a:lnTo>
                <a:lnTo>
                  <a:pt x="1400" y="1400"/>
                </a:lnTo>
                <a:close/>
              </a:path>
              <a:path fill="darken" w="117516" h="21600">
                <a:moveTo>
                  <a:pt x="117516" y="0"/>
                </a:moveTo>
                <a:lnTo>
                  <a:pt x="117516" y="21600"/>
                </a:lnTo>
                <a:lnTo>
                  <a:pt x="116117" y="20200"/>
                </a:lnTo>
                <a:lnTo>
                  <a:pt x="116117" y="1400"/>
                </a:lnTo>
                <a:close/>
              </a:path>
              <a:path fill="darkenLess" w="117516" h="21600">
                <a:moveTo>
                  <a:pt x="117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117" y="20200"/>
                </a:lnTo>
                <a:close/>
              </a:path>
              <a:path fill="lighten" w="117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6" action="ppaction://hlinksldjump"/>
          </p:cNvPr>
          <p:cNvSpPr/>
          <p:nvPr/>
        </p:nvSpPr>
        <p:spPr>
          <a:xfrm>
            <a:off x="3341520" y="5210280"/>
            <a:ext cx="23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arallel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7" action="ppaction://hlinksldjump"/>
          </p:cNvPr>
          <p:cNvSpPr/>
          <p:nvPr/>
        </p:nvSpPr>
        <p:spPr>
          <a:xfrm>
            <a:off x="3325680" y="4103640"/>
            <a:ext cx="2306880" cy="424080"/>
          </a:xfrm>
          <a:custGeom>
            <a:avLst/>
            <a:gdLst>
              <a:gd name="textAreaLeft" fmla="*/ 27360 w 2306880"/>
              <a:gd name="textAreaRight" fmla="*/ 2279520 w 2306880"/>
              <a:gd name="textAreaTop" fmla="*/ 27360 h 424080"/>
              <a:gd name="textAreaBottom" fmla="*/ 396720 h 424080"/>
            </a:gdLst>
            <a:ahLst/>
            <a:rect l="textAreaLeft" t="textAreaTop" r="textAreaRight" b="textAreaBottom"/>
            <a:pathLst>
              <a:path w="117417" h="21600">
                <a:moveTo>
                  <a:pt x="0" y="0"/>
                </a:moveTo>
                <a:lnTo>
                  <a:pt x="117417" y="0"/>
                </a:lnTo>
                <a:lnTo>
                  <a:pt x="117417" y="21600"/>
                </a:lnTo>
                <a:lnTo>
                  <a:pt x="0" y="21600"/>
                </a:lnTo>
                <a:close/>
              </a:path>
              <a:path fill="lightenLess" w="117417" h="21600">
                <a:moveTo>
                  <a:pt x="0" y="0"/>
                </a:moveTo>
                <a:lnTo>
                  <a:pt x="117417" y="0"/>
                </a:lnTo>
                <a:lnTo>
                  <a:pt x="116017" y="1400"/>
                </a:lnTo>
                <a:lnTo>
                  <a:pt x="1400" y="1400"/>
                </a:lnTo>
                <a:close/>
              </a:path>
              <a:path fill="darken" w="117417" h="21600">
                <a:moveTo>
                  <a:pt x="117417" y="0"/>
                </a:moveTo>
                <a:lnTo>
                  <a:pt x="117417" y="21600"/>
                </a:lnTo>
                <a:lnTo>
                  <a:pt x="116017" y="20200"/>
                </a:lnTo>
                <a:lnTo>
                  <a:pt x="116017" y="1400"/>
                </a:lnTo>
                <a:close/>
              </a:path>
              <a:path fill="darkenLess" w="117417" h="21600">
                <a:moveTo>
                  <a:pt x="117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017" y="20200"/>
                </a:lnTo>
                <a:close/>
              </a:path>
              <a:path fill="lighten" w="117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8" action="ppaction://hlinksldjump"/>
          </p:cNvPr>
          <p:cNvSpPr/>
          <p:nvPr/>
        </p:nvSpPr>
        <p:spPr>
          <a:xfrm>
            <a:off x="3327480" y="40910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87680" y="2244600"/>
            <a:ext cx="22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6320" y="2241720"/>
            <a:ext cx="23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9" action="ppaction://hlinksldjump"/>
          </p:cNvPr>
          <p:cNvSpPr/>
          <p:nvPr/>
        </p:nvSpPr>
        <p:spPr>
          <a:xfrm>
            <a:off x="887400" y="261468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10" action="ppaction://hlinksldjump"/>
          </p:cNvPr>
          <p:cNvSpPr/>
          <p:nvPr/>
        </p:nvSpPr>
        <p:spPr>
          <a:xfrm>
            <a:off x="873000" y="2600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88840" y="3341520"/>
            <a:ext cx="2306880" cy="63828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35" h="21600">
                <a:moveTo>
                  <a:pt x="0" y="0"/>
                </a:moveTo>
                <a:lnTo>
                  <a:pt x="78035" y="0"/>
                </a:lnTo>
                <a:lnTo>
                  <a:pt x="78035" y="21600"/>
                </a:lnTo>
                <a:lnTo>
                  <a:pt x="0" y="21600"/>
                </a:lnTo>
                <a:close/>
              </a:path>
              <a:path fill="lightenLess" w="78035" h="21600">
                <a:moveTo>
                  <a:pt x="0" y="0"/>
                </a:moveTo>
                <a:lnTo>
                  <a:pt x="78035" y="0"/>
                </a:lnTo>
                <a:lnTo>
                  <a:pt x="76635" y="1400"/>
                </a:lnTo>
                <a:lnTo>
                  <a:pt x="1400" y="1400"/>
                </a:lnTo>
                <a:close/>
              </a:path>
              <a:path fill="darken" w="78035" h="21600">
                <a:moveTo>
                  <a:pt x="78035" y="0"/>
                </a:moveTo>
                <a:lnTo>
                  <a:pt x="78035" y="21600"/>
                </a:lnTo>
                <a:lnTo>
                  <a:pt x="76635" y="20200"/>
                </a:lnTo>
                <a:lnTo>
                  <a:pt x="76635" y="1400"/>
                </a:lnTo>
                <a:close/>
              </a:path>
              <a:path fill="darkenLess" w="78035" h="21600">
                <a:moveTo>
                  <a:pt x="7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35" y="20200"/>
                </a:lnTo>
                <a:close/>
              </a:path>
              <a:path fill="lighten" w="7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88840" y="3341520"/>
            <a:ext cx="23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1" action="ppaction://hlinksldjump"/>
          </p:cNvPr>
          <p:cNvSpPr/>
          <p:nvPr/>
        </p:nvSpPr>
        <p:spPr>
          <a:xfrm>
            <a:off x="887400" y="409716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2" action="ppaction://hlinksldjump"/>
          </p:cNvPr>
          <p:cNvSpPr/>
          <p:nvPr/>
        </p:nvSpPr>
        <p:spPr>
          <a:xfrm>
            <a:off x="860400" y="40971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3" action="ppaction://hlinksldjump"/>
          </p:cNvPr>
          <p:cNvSpPr/>
          <p:nvPr/>
        </p:nvSpPr>
        <p:spPr>
          <a:xfrm>
            <a:off x="887400" y="487188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4" action="ppaction://hlinksldjump"/>
          </p:cNvPr>
          <p:cNvSpPr/>
          <p:nvPr/>
        </p:nvSpPr>
        <p:spPr>
          <a:xfrm>
            <a:off x="873000" y="48578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5" action="ppaction://hlinksldjump"/>
          </p:cNvPr>
          <p:cNvSpPr/>
          <p:nvPr/>
        </p:nvSpPr>
        <p:spPr>
          <a:xfrm>
            <a:off x="3328920" y="4643280"/>
            <a:ext cx="2306880" cy="422280"/>
          </a:xfrm>
          <a:custGeom>
            <a:avLst/>
            <a:gdLst>
              <a:gd name="textAreaLeft" fmla="*/ 27360 w 2306880"/>
              <a:gd name="textAreaRight" fmla="*/ 2279520 w 230688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117917" h="21600">
                <a:moveTo>
                  <a:pt x="0" y="0"/>
                </a:moveTo>
                <a:lnTo>
                  <a:pt x="117917" y="0"/>
                </a:lnTo>
                <a:lnTo>
                  <a:pt x="117917" y="21600"/>
                </a:lnTo>
                <a:lnTo>
                  <a:pt x="0" y="21600"/>
                </a:lnTo>
                <a:close/>
              </a:path>
              <a:path fill="lightenLess" w="117917" h="21600">
                <a:moveTo>
                  <a:pt x="0" y="0"/>
                </a:moveTo>
                <a:lnTo>
                  <a:pt x="117917" y="0"/>
                </a:lnTo>
                <a:lnTo>
                  <a:pt x="116517" y="1400"/>
                </a:lnTo>
                <a:lnTo>
                  <a:pt x="1400" y="1400"/>
                </a:lnTo>
                <a:close/>
              </a:path>
              <a:path fill="darken" w="117917" h="21600">
                <a:moveTo>
                  <a:pt x="117917" y="0"/>
                </a:moveTo>
                <a:lnTo>
                  <a:pt x="117917" y="21600"/>
                </a:lnTo>
                <a:lnTo>
                  <a:pt x="116517" y="20200"/>
                </a:lnTo>
                <a:lnTo>
                  <a:pt x="116517" y="1400"/>
                </a:lnTo>
                <a:close/>
              </a:path>
              <a:path fill="darkenLess" w="117917" h="21600">
                <a:moveTo>
                  <a:pt x="117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517" y="20200"/>
                </a:lnTo>
                <a:close/>
              </a:path>
              <a:path fill="lighten" w="117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6" action="ppaction://hlinksldjump"/>
          </p:cNvPr>
          <p:cNvSpPr/>
          <p:nvPr/>
        </p:nvSpPr>
        <p:spPr>
          <a:xfrm>
            <a:off x="3328920" y="46292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°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76920" y="261612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5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78360" y="3365640"/>
            <a:ext cx="2306880" cy="63792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79" h="21600">
                <a:moveTo>
                  <a:pt x="0" y="0"/>
                </a:moveTo>
                <a:lnTo>
                  <a:pt x="78079" y="0"/>
                </a:lnTo>
                <a:lnTo>
                  <a:pt x="78079" y="21600"/>
                </a:lnTo>
                <a:lnTo>
                  <a:pt x="0" y="21600"/>
                </a:lnTo>
                <a:close/>
              </a:path>
              <a:path fill="lightenLess" w="78079" h="21600">
                <a:moveTo>
                  <a:pt x="0" y="0"/>
                </a:moveTo>
                <a:lnTo>
                  <a:pt x="78079" y="0"/>
                </a:lnTo>
                <a:lnTo>
                  <a:pt x="76679" y="1400"/>
                </a:lnTo>
                <a:lnTo>
                  <a:pt x="1400" y="1400"/>
                </a:lnTo>
                <a:close/>
              </a:path>
              <a:path fill="darken" w="78079" h="21600">
                <a:moveTo>
                  <a:pt x="78079" y="0"/>
                </a:moveTo>
                <a:lnTo>
                  <a:pt x="78079" y="21600"/>
                </a:lnTo>
                <a:lnTo>
                  <a:pt x="76679" y="20200"/>
                </a:lnTo>
                <a:lnTo>
                  <a:pt x="76679" y="1400"/>
                </a:lnTo>
                <a:close/>
              </a:path>
              <a:path fill="darkenLess" w="78079" h="21600">
                <a:moveTo>
                  <a:pt x="7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79" y="20200"/>
                </a:lnTo>
                <a:close/>
              </a:path>
              <a:path fill="lighten" w="7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5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7" action="ppaction://hlinksldjump"/>
          </p:cNvPr>
          <p:cNvSpPr/>
          <p:nvPr/>
        </p:nvSpPr>
        <p:spPr>
          <a:xfrm>
            <a:off x="5775480" y="4105440"/>
            <a:ext cx="2306520" cy="63792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67" h="21600">
                <a:moveTo>
                  <a:pt x="0" y="0"/>
                </a:moveTo>
                <a:lnTo>
                  <a:pt x="78067" y="0"/>
                </a:lnTo>
                <a:lnTo>
                  <a:pt x="78067" y="21600"/>
                </a:lnTo>
                <a:lnTo>
                  <a:pt x="0" y="21600"/>
                </a:lnTo>
                <a:close/>
              </a:path>
              <a:path fill="lightenLess" w="78067" h="21600">
                <a:moveTo>
                  <a:pt x="0" y="0"/>
                </a:moveTo>
                <a:lnTo>
                  <a:pt x="78067" y="0"/>
                </a:lnTo>
                <a:lnTo>
                  <a:pt x="76667" y="1400"/>
                </a:lnTo>
                <a:lnTo>
                  <a:pt x="1400" y="1400"/>
                </a:lnTo>
                <a:close/>
              </a:path>
              <a:path fill="darken" w="78067" h="21600">
                <a:moveTo>
                  <a:pt x="78067" y="0"/>
                </a:moveTo>
                <a:lnTo>
                  <a:pt x="78067" y="21600"/>
                </a:lnTo>
                <a:lnTo>
                  <a:pt x="76667" y="20200"/>
                </a:lnTo>
                <a:lnTo>
                  <a:pt x="76667" y="1400"/>
                </a:lnTo>
                <a:close/>
              </a:path>
              <a:path fill="darkenLess" w="78067" h="21600">
                <a:moveTo>
                  <a:pt x="78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7" y="20200"/>
                </a:lnTo>
                <a:close/>
              </a:path>
              <a:path fill="lighten" w="78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5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48400" y="2232000"/>
            <a:ext cx="12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0080" y="1816200"/>
            <a:ext cx="2306520" cy="433440"/>
          </a:xfrm>
          <a:custGeom>
            <a:avLst/>
            <a:gdLst>
              <a:gd name="textAreaLeft" fmla="*/ 28080 w 2306520"/>
              <a:gd name="textAreaRight" fmla="*/ 2278440 w 23065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14865" h="21600">
                <a:moveTo>
                  <a:pt x="0" y="0"/>
                </a:moveTo>
                <a:lnTo>
                  <a:pt x="114865" y="0"/>
                </a:lnTo>
                <a:lnTo>
                  <a:pt x="114865" y="21600"/>
                </a:lnTo>
                <a:lnTo>
                  <a:pt x="0" y="21600"/>
                </a:lnTo>
                <a:close/>
              </a:path>
              <a:path fill="lightenLess" w="114865" h="21600">
                <a:moveTo>
                  <a:pt x="0" y="0"/>
                </a:moveTo>
                <a:lnTo>
                  <a:pt x="114865" y="0"/>
                </a:lnTo>
                <a:lnTo>
                  <a:pt x="113465" y="1400"/>
                </a:lnTo>
                <a:lnTo>
                  <a:pt x="1400" y="1400"/>
                </a:lnTo>
                <a:close/>
              </a:path>
              <a:path fill="darken" w="114865" h="21600">
                <a:moveTo>
                  <a:pt x="114865" y="0"/>
                </a:moveTo>
                <a:lnTo>
                  <a:pt x="114865" y="21600"/>
                </a:lnTo>
                <a:lnTo>
                  <a:pt x="113465" y="20200"/>
                </a:lnTo>
                <a:lnTo>
                  <a:pt x="113465" y="1400"/>
                </a:lnTo>
                <a:close/>
              </a:path>
              <a:path fill="darkenLess" w="114865" h="21600">
                <a:moveTo>
                  <a:pt x="114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465" y="20200"/>
                </a:lnTo>
                <a:close/>
              </a:path>
              <a:path fill="lighten" w="114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b6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0080" y="1816200"/>
            <a:ext cx="23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2616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ut a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33782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m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41403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quidistant between 2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3320" y="5746680"/>
            <a:ext cx="2306520" cy="420840"/>
          </a:xfrm>
          <a:custGeom>
            <a:avLst/>
            <a:gdLst>
              <a:gd name="textAreaLeft" fmla="*/ 27000 w 2306520"/>
              <a:gd name="textAreaRight" fmla="*/ 2279520 w 2306520"/>
              <a:gd name="textAreaTop" fmla="*/ 27000 h 420840"/>
              <a:gd name="textAreaBottom" fmla="*/ 393840 h 420840"/>
            </a:gdLst>
            <a:ahLst/>
            <a:rect l="textAreaLeft" t="textAreaTop" r="textAreaRight" b="textAreaBottom"/>
            <a:pathLst>
              <a:path w="118302" h="21600">
                <a:moveTo>
                  <a:pt x="0" y="0"/>
                </a:moveTo>
                <a:lnTo>
                  <a:pt x="118302" y="0"/>
                </a:lnTo>
                <a:lnTo>
                  <a:pt x="118302" y="21600"/>
                </a:lnTo>
                <a:lnTo>
                  <a:pt x="0" y="21600"/>
                </a:lnTo>
                <a:close/>
              </a:path>
              <a:path fill="lightenLess" w="118302" h="21600">
                <a:moveTo>
                  <a:pt x="0" y="0"/>
                </a:moveTo>
                <a:lnTo>
                  <a:pt x="118302" y="0"/>
                </a:lnTo>
                <a:lnTo>
                  <a:pt x="116902" y="1400"/>
                </a:lnTo>
                <a:lnTo>
                  <a:pt x="1400" y="1400"/>
                </a:lnTo>
                <a:close/>
              </a:path>
              <a:path fill="darken" w="118302" h="21600">
                <a:moveTo>
                  <a:pt x="118302" y="0"/>
                </a:moveTo>
                <a:lnTo>
                  <a:pt x="118302" y="21600"/>
                </a:lnTo>
                <a:lnTo>
                  <a:pt x="116902" y="20200"/>
                </a:lnTo>
                <a:lnTo>
                  <a:pt x="116902" y="1400"/>
                </a:lnTo>
                <a:close/>
              </a:path>
              <a:path fill="darkenLess" w="118302" h="21600">
                <a:moveTo>
                  <a:pt x="118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902" y="20200"/>
                </a:lnTo>
                <a:close/>
              </a:path>
              <a:path fill="lighten" w="118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b6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3320" y="57610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h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at A and Draw 2 arcs that cross each of the arms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6008760" y="3193920"/>
            <a:ext cx="2411280" cy="2409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705720" y="3076560"/>
            <a:ext cx="159696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026560" y="3513240"/>
            <a:ext cx="4492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168960" y="5138640"/>
            <a:ext cx="1886040" cy="5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024600" y="3645000"/>
            <a:ext cx="244440" cy="7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641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006960" y="3192480"/>
            <a:ext cx="2411640" cy="24098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7077240" y="4284720"/>
            <a:ext cx="287280" cy="288720"/>
            <a:chOff x="7077240" y="4284720"/>
            <a:chExt cx="287280" cy="288720"/>
          </a:xfrm>
        </p:grpSpPr>
        <p:sp>
          <p:nvSpPr>
            <p:cNvPr id="648" name=""/>
            <p:cNvSpPr/>
            <p:nvPr/>
          </p:nvSpPr>
          <p:spPr>
            <a:xfrm>
              <a:off x="7221600" y="42847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077240" y="44290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6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9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n arc from 1 in the middle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6008760" y="3193920"/>
            <a:ext cx="2411280" cy="2409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705720" y="3076560"/>
            <a:ext cx="159696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026560" y="3513240"/>
            <a:ext cx="4492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168960" y="5138640"/>
            <a:ext cx="1886040" cy="5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024600" y="3645000"/>
            <a:ext cx="244440" cy="7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664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n arc from 1 in the middle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680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687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6319800" y="3313080"/>
            <a:ext cx="287280" cy="288720"/>
            <a:chOff x="6319800" y="3313080"/>
            <a:chExt cx="287280" cy="288720"/>
          </a:xfrm>
        </p:grpSpPr>
        <p:sp>
          <p:nvSpPr>
            <p:cNvPr id="693" name=""/>
            <p:cNvSpPr/>
            <p:nvPr/>
          </p:nvSpPr>
          <p:spPr>
            <a:xfrm>
              <a:off x="6464160" y="331308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19800" y="34574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5411880" y="2378160"/>
            <a:ext cx="2124000" cy="2124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5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 arc from 2 that crosses the arc from 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07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714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5079960" y="3860640"/>
            <a:ext cx="2124000" cy="212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614840" y="4267080"/>
            <a:ext cx="1379520" cy="198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850000" y="5153040"/>
            <a:ext cx="163980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270480" y="3787920"/>
            <a:ext cx="1016280" cy="16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 arc from 2 that crosses the arc from 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34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741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5958000" y="4692600"/>
            <a:ext cx="287280" cy="288720"/>
            <a:chOff x="5958000" y="4692600"/>
            <a:chExt cx="287280" cy="288720"/>
          </a:xfrm>
        </p:grpSpPr>
        <p:sp>
          <p:nvSpPr>
            <p:cNvPr id="747" name=""/>
            <p:cNvSpPr/>
            <p:nvPr/>
          </p:nvSpPr>
          <p:spPr>
            <a:xfrm>
              <a:off x="6102360" y="4692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958000" y="4836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5091120" y="3859200"/>
            <a:ext cx="2124000" cy="2124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8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1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"/>
          <p:cNvGrpSpPr/>
          <p:nvPr/>
        </p:nvGrpSpPr>
        <p:grpSpPr>
          <a:xfrm>
            <a:off x="4614840" y="3787920"/>
            <a:ext cx="2874960" cy="2468520"/>
            <a:chOff x="4614840" y="3787920"/>
            <a:chExt cx="2874960" cy="2468520"/>
          </a:xfrm>
        </p:grpSpPr>
        <p:sp>
          <p:nvSpPr>
            <p:cNvPr id="759" name=""/>
            <p:cNvSpPr/>
            <p:nvPr/>
          </p:nvSpPr>
          <p:spPr>
            <a:xfrm>
              <a:off x="5079960" y="3860640"/>
              <a:ext cx="2124000" cy="212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14840" y="4267080"/>
              <a:ext cx="1379520" cy="19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50000" y="5153040"/>
              <a:ext cx="16398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70480" y="3787920"/>
              <a:ext cx="1016280" cy="16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the point of the angle to where the arcs from 1 and 2 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66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773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3568320" y="3511440"/>
            <a:ext cx="36306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"/>
          <p:cNvGrpSpPr/>
          <p:nvPr/>
        </p:nvGrpSpPr>
        <p:grpSpPr>
          <a:xfrm>
            <a:off x="4614840" y="3787920"/>
            <a:ext cx="2874960" cy="2468520"/>
            <a:chOff x="4614840" y="3787920"/>
            <a:chExt cx="2874960" cy="2468520"/>
          </a:xfrm>
        </p:grpSpPr>
        <p:sp>
          <p:nvSpPr>
            <p:cNvPr id="789" name=""/>
            <p:cNvSpPr/>
            <p:nvPr/>
          </p:nvSpPr>
          <p:spPr>
            <a:xfrm>
              <a:off x="5079960" y="3860640"/>
              <a:ext cx="2124000" cy="212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14840" y="4267080"/>
              <a:ext cx="1379520" cy="19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850000" y="5153040"/>
              <a:ext cx="16398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70480" y="3787920"/>
              <a:ext cx="1016280" cy="16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ngle Bisector of angle BA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98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805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3568320" y="3511440"/>
            <a:ext cx="36306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 line 4cm above and parallel to line A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20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your compass to 4c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26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an arc above line AB using each end as the cen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4952880" y="435600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584600" y="5029200"/>
            <a:ext cx="12826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626080" y="4292640"/>
            <a:ext cx="1003320" cy="7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946920" y="248904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845400" y="3009960"/>
            <a:ext cx="990360" cy="95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683480" y="2425680"/>
            <a:ext cx="9525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38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7537320" y="3076560"/>
            <a:ext cx="287280" cy="288720"/>
            <a:chOff x="7537320" y="3076560"/>
            <a:chExt cx="287280" cy="288720"/>
          </a:xfrm>
        </p:grpSpPr>
        <p:sp>
          <p:nvSpPr>
            <p:cNvPr id="846" name=""/>
            <p:cNvSpPr/>
            <p:nvPr/>
          </p:nvSpPr>
          <p:spPr>
            <a:xfrm>
              <a:off x="7681680" y="30765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37320" y="32209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5532480" y="4946760"/>
            <a:ext cx="287280" cy="288720"/>
            <a:chOff x="5532480" y="4946760"/>
            <a:chExt cx="287280" cy="288720"/>
          </a:xfrm>
        </p:grpSpPr>
        <p:sp>
          <p:nvSpPr>
            <p:cNvPr id="849" name=""/>
            <p:cNvSpPr/>
            <p:nvPr/>
          </p:nvSpPr>
          <p:spPr>
            <a:xfrm>
              <a:off x="5676840" y="49467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532480" y="50911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4965840" y="4354560"/>
            <a:ext cx="1439640" cy="14396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945480" y="2487600"/>
            <a:ext cx="1439640" cy="1440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8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1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1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4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A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at least 2 other centers draw more arcs above A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"/>
          <p:cNvSpPr/>
          <p:nvPr/>
        </p:nvSpPr>
        <p:spPr>
          <a:xfrm>
            <a:off x="5778360" y="358128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50040" y="3048120"/>
            <a:ext cx="1440000" cy="1439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197760" y="3556080"/>
            <a:ext cx="1079280" cy="96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4584600" y="4292640"/>
            <a:ext cx="2044800" cy="1562040"/>
            <a:chOff x="4584600" y="4292640"/>
            <a:chExt cx="2044800" cy="1562040"/>
          </a:xfrm>
        </p:grpSpPr>
        <p:sp>
          <p:nvSpPr>
            <p:cNvPr id="860" name=""/>
            <p:cNvSpPr/>
            <p:nvPr/>
          </p:nvSpPr>
          <p:spPr>
            <a:xfrm>
              <a:off x="4952880" y="435600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584600" y="5029200"/>
              <a:ext cx="128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626080" y="4292640"/>
              <a:ext cx="100332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6845400" y="2425680"/>
            <a:ext cx="1790640" cy="1536840"/>
            <a:chOff x="6845400" y="2425680"/>
            <a:chExt cx="1790640" cy="1536840"/>
          </a:xfrm>
        </p:grpSpPr>
        <p:sp>
          <p:nvSpPr>
            <p:cNvPr id="864" name=""/>
            <p:cNvSpPr/>
            <p:nvPr/>
          </p:nvSpPr>
          <p:spPr>
            <a:xfrm>
              <a:off x="6946920" y="248904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45400" y="3009960"/>
              <a:ext cx="9903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683480" y="2425680"/>
              <a:ext cx="9525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68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76920" y="3578400"/>
            <a:ext cx="1440000" cy="14396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6364440" y="4168800"/>
            <a:ext cx="287280" cy="288720"/>
            <a:chOff x="6364440" y="4168800"/>
            <a:chExt cx="287280" cy="288720"/>
          </a:xfrm>
        </p:grpSpPr>
        <p:sp>
          <p:nvSpPr>
            <p:cNvPr id="877" name=""/>
            <p:cNvSpPr/>
            <p:nvPr/>
          </p:nvSpPr>
          <p:spPr>
            <a:xfrm>
              <a:off x="6508800" y="41688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364440" y="43131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6348240" y="3046320"/>
            <a:ext cx="1440000" cy="1440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6942240" y="3629160"/>
            <a:ext cx="287280" cy="288720"/>
            <a:chOff x="6942240" y="3629160"/>
            <a:chExt cx="287280" cy="288720"/>
          </a:xfrm>
        </p:grpSpPr>
        <p:sp>
          <p:nvSpPr>
            <p:cNvPr id="881" name=""/>
            <p:cNvSpPr/>
            <p:nvPr/>
          </p:nvSpPr>
          <p:spPr>
            <a:xfrm>
              <a:off x="7086600" y="36291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942240" y="37735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9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2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2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5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 the tops of all of the ar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5778360" y="3048120"/>
            <a:ext cx="2011680" cy="1973160"/>
            <a:chOff x="5778360" y="3048120"/>
            <a:chExt cx="2011680" cy="1973160"/>
          </a:xfrm>
        </p:grpSpPr>
        <p:sp>
          <p:nvSpPr>
            <p:cNvPr id="887" name=""/>
            <p:cNvSpPr/>
            <p:nvPr/>
          </p:nvSpPr>
          <p:spPr>
            <a:xfrm>
              <a:off x="5778360" y="358128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350040" y="3048120"/>
              <a:ext cx="1440000" cy="143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97760" y="3556080"/>
              <a:ext cx="107928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4584600" y="4292640"/>
            <a:ext cx="2044800" cy="1562040"/>
            <a:chOff x="4584600" y="4292640"/>
            <a:chExt cx="2044800" cy="1562040"/>
          </a:xfrm>
        </p:grpSpPr>
        <p:sp>
          <p:nvSpPr>
            <p:cNvPr id="891" name=""/>
            <p:cNvSpPr/>
            <p:nvPr/>
          </p:nvSpPr>
          <p:spPr>
            <a:xfrm>
              <a:off x="4952880" y="435600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84600" y="5029200"/>
              <a:ext cx="128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26080" y="4292640"/>
              <a:ext cx="100332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6845400" y="2425680"/>
            <a:ext cx="1790640" cy="1536840"/>
            <a:chOff x="6845400" y="2425680"/>
            <a:chExt cx="1790640" cy="1536840"/>
          </a:xfrm>
        </p:grpSpPr>
        <p:sp>
          <p:nvSpPr>
            <p:cNvPr id="895" name=""/>
            <p:cNvSpPr/>
            <p:nvPr/>
          </p:nvSpPr>
          <p:spPr>
            <a:xfrm>
              <a:off x="6946920" y="248904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45400" y="3009960"/>
              <a:ext cx="9903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683480" y="2425680"/>
              <a:ext cx="9525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99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"/>
          <p:cNvSpPr/>
          <p:nvPr/>
        </p:nvSpPr>
        <p:spPr>
          <a:xfrm flipV="1">
            <a:off x="4495680" y="2019240"/>
            <a:ext cx="3378240" cy="317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5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arallel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cm a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5778360" y="3048120"/>
            <a:ext cx="2011680" cy="1973160"/>
            <a:chOff x="5778360" y="3048120"/>
            <a:chExt cx="2011680" cy="1973160"/>
          </a:xfrm>
        </p:grpSpPr>
        <p:sp>
          <p:nvSpPr>
            <p:cNvPr id="912" name=""/>
            <p:cNvSpPr/>
            <p:nvPr/>
          </p:nvSpPr>
          <p:spPr>
            <a:xfrm>
              <a:off x="5778360" y="358128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50040" y="3048120"/>
              <a:ext cx="1440000" cy="143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197760" y="3556080"/>
              <a:ext cx="107928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4584600" y="4292640"/>
            <a:ext cx="2044800" cy="1562040"/>
            <a:chOff x="4584600" y="4292640"/>
            <a:chExt cx="2044800" cy="1562040"/>
          </a:xfrm>
        </p:grpSpPr>
        <p:sp>
          <p:nvSpPr>
            <p:cNvPr id="916" name=""/>
            <p:cNvSpPr/>
            <p:nvPr/>
          </p:nvSpPr>
          <p:spPr>
            <a:xfrm>
              <a:off x="4952880" y="435600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84600" y="5029200"/>
              <a:ext cx="128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626080" y="4292640"/>
              <a:ext cx="100332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6845400" y="2425680"/>
            <a:ext cx="1790640" cy="1536840"/>
            <a:chOff x="6845400" y="2425680"/>
            <a:chExt cx="1790640" cy="1536840"/>
          </a:xfrm>
        </p:grpSpPr>
        <p:sp>
          <p:nvSpPr>
            <p:cNvPr id="920" name=""/>
            <p:cNvSpPr/>
            <p:nvPr/>
          </p:nvSpPr>
          <p:spPr>
            <a:xfrm>
              <a:off x="6946920" y="248904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45400" y="3009960"/>
              <a:ext cx="9903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683480" y="2425680"/>
              <a:ext cx="9525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24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"/>
          <p:cNvSpPr/>
          <p:nvPr/>
        </p:nvSpPr>
        <p:spPr>
          <a:xfrm flipV="1">
            <a:off x="4495680" y="2019240"/>
            <a:ext cx="3378240" cy="317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 60º angle at A, above the 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36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point on A draw an arc that crosses the line, about ¼ of a circ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46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5518080" y="4951440"/>
            <a:ext cx="287280" cy="288720"/>
            <a:chOff x="5518080" y="4951440"/>
            <a:chExt cx="287280" cy="288720"/>
          </a:xfrm>
        </p:grpSpPr>
        <p:sp>
          <p:nvSpPr>
            <p:cNvPr id="950" name=""/>
            <p:cNvSpPr/>
            <p:nvPr/>
          </p:nvSpPr>
          <p:spPr>
            <a:xfrm>
              <a:off x="5662440" y="49514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518080" y="5095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4307040" y="3730680"/>
            <a:ext cx="2698560" cy="269856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8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1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45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place point where the arc crosses the line A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"/>
          <p:cNvSpPr/>
          <p:nvPr/>
        </p:nvSpPr>
        <p:spPr>
          <a:xfrm>
            <a:off x="5307120" y="2816280"/>
            <a:ext cx="2698560" cy="2698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4151160" y="3732120"/>
            <a:ext cx="3468960" cy="2741760"/>
            <a:chOff x="4151160" y="3732120"/>
            <a:chExt cx="3468960" cy="2741760"/>
          </a:xfrm>
        </p:grpSpPr>
        <p:sp>
          <p:nvSpPr>
            <p:cNvPr id="961" name=""/>
            <p:cNvSpPr/>
            <p:nvPr/>
          </p:nvSpPr>
          <p:spPr>
            <a:xfrm>
              <a:off x="4308480" y="3732120"/>
              <a:ext cx="2698920" cy="269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151160" y="4470480"/>
              <a:ext cx="3468960" cy="20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325760" y="3860640"/>
              <a:ext cx="638280" cy="7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65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5305320" y="2814480"/>
            <a:ext cx="2698920" cy="269892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519960" y="4037040"/>
            <a:ext cx="287280" cy="288720"/>
            <a:chOff x="6519960" y="4037040"/>
            <a:chExt cx="287280" cy="288720"/>
          </a:xfrm>
        </p:grpSpPr>
        <p:sp>
          <p:nvSpPr>
            <p:cNvPr id="970" name=""/>
            <p:cNvSpPr/>
            <p:nvPr/>
          </p:nvSpPr>
          <p:spPr>
            <a:xfrm>
              <a:off x="6664320" y="40370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519960" y="41814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4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7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where the 2 arcs cro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5307120" y="2598840"/>
            <a:ext cx="3038400" cy="3119400"/>
            <a:chOff x="5307120" y="2598840"/>
            <a:chExt cx="3038400" cy="3119400"/>
          </a:xfrm>
        </p:grpSpPr>
        <p:sp>
          <p:nvSpPr>
            <p:cNvPr id="976" name=""/>
            <p:cNvSpPr/>
            <p:nvPr/>
          </p:nvSpPr>
          <p:spPr>
            <a:xfrm>
              <a:off x="5307120" y="2816280"/>
              <a:ext cx="2698560" cy="2698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86400" y="2598840"/>
              <a:ext cx="2859120" cy="10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43640" y="3513240"/>
              <a:ext cx="741600" cy="22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151160" y="3732120"/>
            <a:ext cx="3468960" cy="2741760"/>
            <a:chOff x="4151160" y="3732120"/>
            <a:chExt cx="3468960" cy="2741760"/>
          </a:xfrm>
        </p:grpSpPr>
        <p:sp>
          <p:nvSpPr>
            <p:cNvPr id="981" name=""/>
            <p:cNvSpPr/>
            <p:nvPr/>
          </p:nvSpPr>
          <p:spPr>
            <a:xfrm>
              <a:off x="4308480" y="3732120"/>
              <a:ext cx="2698920" cy="269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151160" y="4470480"/>
              <a:ext cx="3468960" cy="20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325760" y="3860640"/>
              <a:ext cx="638280" cy="7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85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"/>
          <p:cNvSpPr/>
          <p:nvPr/>
        </p:nvSpPr>
        <p:spPr>
          <a:xfrm flipH="1" flipV="1">
            <a:off x="5181480" y="2960280"/>
            <a:ext cx="47952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0º Ang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5307120" y="2598840"/>
            <a:ext cx="3038400" cy="3119400"/>
            <a:chOff x="5307120" y="2598840"/>
            <a:chExt cx="3038400" cy="3119400"/>
          </a:xfrm>
        </p:grpSpPr>
        <p:sp>
          <p:nvSpPr>
            <p:cNvPr id="994" name=""/>
            <p:cNvSpPr/>
            <p:nvPr/>
          </p:nvSpPr>
          <p:spPr>
            <a:xfrm>
              <a:off x="5307120" y="2816280"/>
              <a:ext cx="2698560" cy="2698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86400" y="2598840"/>
              <a:ext cx="2859120" cy="10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343640" y="3513240"/>
              <a:ext cx="741600" cy="22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4151160" y="3732120"/>
            <a:ext cx="3468960" cy="2741760"/>
            <a:chOff x="4151160" y="3732120"/>
            <a:chExt cx="3468960" cy="2741760"/>
          </a:xfrm>
        </p:grpSpPr>
        <p:sp>
          <p:nvSpPr>
            <p:cNvPr id="999" name=""/>
            <p:cNvSpPr/>
            <p:nvPr/>
          </p:nvSpPr>
          <p:spPr>
            <a:xfrm>
              <a:off x="4308480" y="3732120"/>
              <a:ext cx="2698920" cy="269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51160" y="4470480"/>
              <a:ext cx="3468960" cy="20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325760" y="3860640"/>
              <a:ext cx="638280" cy="7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2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1004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 flipH="1" flipV="1">
            <a:off x="5181480" y="2960280"/>
            <a:ext cx="47952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reflection you need to state 2 thing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eflec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Mirror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flect Shape ABCD in the mirror line x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43564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79600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22764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4643280" y="3068640"/>
            <a:ext cx="2304720" cy="2232000"/>
            <a:chOff x="4643280" y="3068640"/>
            <a:chExt cx="2304720" cy="2232000"/>
          </a:xfrm>
        </p:grpSpPr>
        <p:sp>
          <p:nvSpPr>
            <p:cNvPr id="1027" name=""/>
            <p:cNvSpPr/>
            <p:nvPr/>
          </p:nvSpPr>
          <p:spPr>
            <a:xfrm>
              <a:off x="4643280" y="306864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43280" y="350028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43280" y="393372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43280" y="443700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643280" y="486900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643280" y="530064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659640" y="256536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00364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A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82880" y="3068640"/>
            <a:ext cx="152568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67480" y="49402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22760" y="5084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08480" y="5445000"/>
            <a:ext cx="489744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a number of effective methods to do thi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can fold the page alo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irror line and trac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C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le lines perpendicular t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irror line that g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ough each of th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rn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3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 you get your reflection, the next step is to label its corn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 the image corner that same letter as the object it came from with a ( ‘ ) add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8126280" y="27813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653240" y="5327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6720" y="5300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051520" y="2530440"/>
            <a:ext cx="3257280" cy="285840"/>
          </a:xfrm>
          <a:custGeom>
            <a:avLst/>
            <a:gdLst/>
            <a:ahLst/>
            <a:rect l="l" t="t" r="r" b="b"/>
            <a:pathLst>
              <a:path w="2052" h="180">
                <a:moveTo>
                  <a:pt x="0" y="180"/>
                </a:moveTo>
                <a:cubicBezTo>
                  <a:pt x="148" y="102"/>
                  <a:pt x="308" y="87"/>
                  <a:pt x="475" y="79"/>
                </a:cubicBezTo>
                <a:cubicBezTo>
                  <a:pt x="959" y="0"/>
                  <a:pt x="1454" y="44"/>
                  <a:pt x="1938" y="97"/>
                </a:cubicBezTo>
                <a:cubicBezTo>
                  <a:pt x="1962" y="114"/>
                  <a:pt x="1984" y="139"/>
                  <a:pt x="2011" y="152"/>
                </a:cubicBezTo>
                <a:cubicBezTo>
                  <a:pt x="2052" y="172"/>
                  <a:pt x="2028" y="149"/>
                  <a:pt x="2048" y="1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342120" y="5589720"/>
            <a:ext cx="685800" cy="115920"/>
          </a:xfrm>
          <a:custGeom>
            <a:avLst/>
            <a:gdLst/>
            <a:ahLst/>
            <a:rect l="l" t="t" r="r" b="b"/>
            <a:pathLst>
              <a:path w="432" h="73">
                <a:moveTo>
                  <a:pt x="0" y="0"/>
                </a:moveTo>
                <a:cubicBezTo>
                  <a:pt x="31" y="29"/>
                  <a:pt x="74" y="31"/>
                  <a:pt x="110" y="55"/>
                </a:cubicBezTo>
                <a:cubicBezTo>
                  <a:pt x="432" y="41"/>
                  <a:pt x="239" y="73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443560" y="5589720"/>
            <a:ext cx="2249640" cy="311040"/>
          </a:xfrm>
          <a:custGeom>
            <a:avLst/>
            <a:gdLst/>
            <a:ahLst/>
            <a:rect l="l" t="t" r="r" b="b"/>
            <a:pathLst>
              <a:path w="1417" h="196">
                <a:moveTo>
                  <a:pt x="0" y="0"/>
                </a:moveTo>
                <a:cubicBezTo>
                  <a:pt x="12" y="3"/>
                  <a:pt x="25" y="4"/>
                  <a:pt x="36" y="9"/>
                </a:cubicBezTo>
                <a:cubicBezTo>
                  <a:pt x="46" y="13"/>
                  <a:pt x="53" y="24"/>
                  <a:pt x="64" y="27"/>
                </a:cubicBezTo>
                <a:cubicBezTo>
                  <a:pt x="91" y="34"/>
                  <a:pt x="119" y="34"/>
                  <a:pt x="146" y="37"/>
                </a:cubicBezTo>
                <a:cubicBezTo>
                  <a:pt x="221" y="62"/>
                  <a:pt x="129" y="27"/>
                  <a:pt x="192" y="64"/>
                </a:cubicBezTo>
                <a:cubicBezTo>
                  <a:pt x="210" y="74"/>
                  <a:pt x="262" y="80"/>
                  <a:pt x="274" y="82"/>
                </a:cubicBezTo>
                <a:cubicBezTo>
                  <a:pt x="292" y="88"/>
                  <a:pt x="310" y="98"/>
                  <a:pt x="329" y="101"/>
                </a:cubicBezTo>
                <a:cubicBezTo>
                  <a:pt x="372" y="107"/>
                  <a:pt x="457" y="119"/>
                  <a:pt x="457" y="119"/>
                </a:cubicBezTo>
                <a:cubicBezTo>
                  <a:pt x="554" y="151"/>
                  <a:pt x="656" y="172"/>
                  <a:pt x="758" y="183"/>
                </a:cubicBezTo>
                <a:cubicBezTo>
                  <a:pt x="908" y="178"/>
                  <a:pt x="982" y="196"/>
                  <a:pt x="1097" y="155"/>
                </a:cubicBezTo>
                <a:cubicBezTo>
                  <a:pt x="1153" y="99"/>
                  <a:pt x="1230" y="107"/>
                  <a:pt x="1298" y="73"/>
                </a:cubicBezTo>
                <a:cubicBezTo>
                  <a:pt x="1310" y="67"/>
                  <a:pt x="1323" y="62"/>
                  <a:pt x="1334" y="55"/>
                </a:cubicBezTo>
                <a:cubicBezTo>
                  <a:pt x="1341" y="50"/>
                  <a:pt x="1346" y="42"/>
                  <a:pt x="1353" y="37"/>
                </a:cubicBezTo>
                <a:cubicBezTo>
                  <a:pt x="1374" y="24"/>
                  <a:pt x="1399" y="27"/>
                  <a:pt x="1417" y="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5770440" y="4441680"/>
            <a:ext cx="1719360" cy="1795320"/>
            <a:chOff x="5770440" y="4441680"/>
            <a:chExt cx="1719360" cy="1795320"/>
          </a:xfrm>
        </p:grpSpPr>
        <p:sp>
          <p:nvSpPr>
            <p:cNvPr id="1067" name=""/>
            <p:cNvSpPr/>
            <p:nvPr/>
          </p:nvSpPr>
          <p:spPr>
            <a:xfrm>
              <a:off x="5810400" y="448920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770440" y="532260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808600" y="5322600"/>
              <a:ext cx="165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645240" y="4490640"/>
              <a:ext cx="0" cy="83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6647760" y="4755240"/>
              <a:ext cx="595800" cy="56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41160" y="4741920"/>
              <a:ext cx="605160" cy="5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492960" y="444168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ly a good check is to rule a line from one point to its’ image and check that the mirror line is at right ang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g) D to D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8126280" y="27813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7653240" y="5327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786720" y="5300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226200" y="5300640"/>
            <a:ext cx="82692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le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irror line x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126280" y="27813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653240" y="5327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786720" y="5300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rotation you need 3 thing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nt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 arou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ay how far to 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tate the triangle ABC, 90° around point 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6910560" y="2460600"/>
            <a:ext cx="55440" cy="13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332400" y="20970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entre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172200" y="3455640"/>
            <a:ext cx="295200" cy="17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243400" y="5176800"/>
            <a:ext cx="27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 object to Ro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a number of methods of rotating shap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is to trace the shape onto paper, then rotate the paper 90°, with your compass pt through the centre of rot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other way is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 line from one of the corners to the centre, in this case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140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n draw an arc with the compass pt at the centre and pencil on the same corn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848120" y="1725480"/>
            <a:ext cx="4308480" cy="430848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6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9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9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160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5774400" y="2748240"/>
            <a:ext cx="2324520" cy="2287080"/>
            <a:chOff x="5774400" y="2748240"/>
            <a:chExt cx="2324520" cy="2287080"/>
          </a:xfrm>
        </p:grpSpPr>
        <p:sp>
          <p:nvSpPr>
            <p:cNvPr id="1166" name=""/>
            <p:cNvSpPr/>
            <p:nvPr/>
          </p:nvSpPr>
          <p:spPr>
            <a:xfrm rot="3791400">
              <a:off x="6159600" y="303300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rot="3791400">
              <a:off x="5710320" y="360468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607800" y="3122640"/>
              <a:ext cx="747360" cy="1479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983640" y="3493800"/>
              <a:ext cx="744120" cy="37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 flipV="1">
              <a:off x="6987600" y="3870720"/>
              <a:ext cx="773640" cy="27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6983280" y="3068280"/>
              <a:ext cx="247680" cy="803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3791400">
              <a:off x="7518960" y="341856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sure the angle of rotation from the line B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013520" y="3452760"/>
            <a:ext cx="77004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B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40120" y="3068640"/>
            <a:ext cx="1468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08480" y="5445000"/>
            <a:ext cx="489744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188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that line crosses the arc label B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7738920" y="3452400"/>
            <a:ext cx="44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6997680" y="2711160"/>
            <a:ext cx="2146320" cy="11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9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210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that line crosses the arc label B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6997680" y="2711160"/>
            <a:ext cx="2146320" cy="11761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"/>
          <p:cNvGrpSpPr/>
          <p:nvPr/>
        </p:nvGrpSpPr>
        <p:grpSpPr>
          <a:xfrm>
            <a:off x="5951520" y="2916360"/>
            <a:ext cx="1987560" cy="1931760"/>
            <a:chOff x="5951520" y="2916360"/>
            <a:chExt cx="1987560" cy="1931760"/>
          </a:xfrm>
        </p:grpSpPr>
        <p:sp>
          <p:nvSpPr>
            <p:cNvPr id="1232" name=""/>
            <p:cNvSpPr/>
            <p:nvPr/>
          </p:nvSpPr>
          <p:spPr>
            <a:xfrm>
              <a:off x="6008760" y="2916360"/>
              <a:ext cx="1900080" cy="1900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678800" y="3251160"/>
              <a:ext cx="260280" cy="129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951520" y="4238640"/>
              <a:ext cx="17557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6103800" y="2997360"/>
            <a:ext cx="1719360" cy="1795320"/>
            <a:chOff x="6103800" y="2997360"/>
            <a:chExt cx="1719360" cy="1795320"/>
          </a:xfrm>
        </p:grpSpPr>
        <p:sp>
          <p:nvSpPr>
            <p:cNvPr id="1236" name=""/>
            <p:cNvSpPr/>
            <p:nvPr/>
          </p:nvSpPr>
          <p:spPr>
            <a:xfrm>
              <a:off x="6143760" y="304488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03800" y="387828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141960" y="3878280"/>
              <a:ext cx="165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978600" y="3046320"/>
              <a:ext cx="0" cy="83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6981120" y="3310920"/>
              <a:ext cx="595800" cy="56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374520" y="3297600"/>
              <a:ext cx="605160" cy="5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826320" y="299736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244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for each of the other po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 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6997680" y="2711160"/>
            <a:ext cx="2146320" cy="11761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H="1">
            <a:off x="5210280" y="3889440"/>
            <a:ext cx="21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05520" y="2914560"/>
            <a:ext cx="1900080" cy="19004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6967440" y="300492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6969240" y="2496600"/>
            <a:ext cx="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2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2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0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3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6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1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2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3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2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9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2" dur="2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6545160" y="3497400"/>
            <a:ext cx="1190880" cy="1060200"/>
            <a:chOff x="6545160" y="3497400"/>
            <a:chExt cx="1190880" cy="1060200"/>
          </a:xfrm>
        </p:grpSpPr>
        <p:sp>
          <p:nvSpPr>
            <p:cNvPr id="1272" name=""/>
            <p:cNvSpPr/>
            <p:nvPr/>
          </p:nvSpPr>
          <p:spPr>
            <a:xfrm>
              <a:off x="6648480" y="3529080"/>
              <a:ext cx="698400" cy="698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545160" y="4005360"/>
              <a:ext cx="1190880" cy="55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272360" y="3497400"/>
              <a:ext cx="333360" cy="82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6105600" y="2998800"/>
            <a:ext cx="1719360" cy="1795320"/>
            <a:chOff x="6105600" y="2998800"/>
            <a:chExt cx="1719360" cy="1795320"/>
          </a:xfrm>
        </p:grpSpPr>
        <p:sp>
          <p:nvSpPr>
            <p:cNvPr id="1276" name=""/>
            <p:cNvSpPr/>
            <p:nvPr/>
          </p:nvSpPr>
          <p:spPr>
            <a:xfrm>
              <a:off x="6145560" y="304632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105600" y="387972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143760" y="3879720"/>
              <a:ext cx="165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980400" y="3047760"/>
              <a:ext cx="0" cy="83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6982920" y="3312360"/>
              <a:ext cx="595800" cy="56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376320" y="3299040"/>
              <a:ext cx="605160" cy="5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828120" y="299880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for each of the other po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6138360" y="3889440"/>
            <a:ext cx="12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645240" y="3527280"/>
            <a:ext cx="698400" cy="6987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6967440" y="300528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967440" y="3440160"/>
            <a:ext cx="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924600" y="348444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886440" y="34671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5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8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3" dur="1000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1000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4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join the points of the ima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924600" y="348444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950160" y="28735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6967440" y="290340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6967440" y="2859120"/>
            <a:ext cx="193032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2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7" dur="2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2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rotat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90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ound poin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924600" y="348444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950160" y="28735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967440" y="290340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6967440" y="2859120"/>
            <a:ext cx="193032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translation you need 3 thing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ransl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re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ranslate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ay how far to 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9" name=""/>
          <p:cNvGrpSpPr/>
          <p:nvPr/>
        </p:nvGrpSpPr>
        <p:grpSpPr>
          <a:xfrm>
            <a:off x="5364000" y="2637000"/>
            <a:ext cx="1729080" cy="3313080"/>
            <a:chOff x="5364000" y="2637000"/>
            <a:chExt cx="1729080" cy="3313080"/>
          </a:xfrm>
        </p:grpSpPr>
        <p:sp>
          <p:nvSpPr>
            <p:cNvPr id="1350" name=""/>
            <p:cNvSpPr/>
            <p:nvPr/>
          </p:nvSpPr>
          <p:spPr>
            <a:xfrm>
              <a:off x="5796000" y="2637000"/>
              <a:ext cx="0" cy="331308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227640" y="2637000"/>
              <a:ext cx="0" cy="331308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659640" y="2637000"/>
              <a:ext cx="0" cy="331308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64000" y="306864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64000" y="350028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364000" y="393372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364000" y="443700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364000" y="486900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364000" y="530064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e the shape ABCD 5cm right and 3cm dow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e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 occasionally written as a vector in which case the top number means distance acro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"/>
          <p:cNvSpPr/>
          <p:nvPr/>
        </p:nvSpPr>
        <p:spPr>
          <a:xfrm>
            <a:off x="2422440" y="4776840"/>
            <a:ext cx="49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2974680" y="4964040"/>
            <a:ext cx="6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452680" y="4761000"/>
            <a:ext cx="392040" cy="79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554200" y="5500800"/>
            <a:ext cx="2174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538360" y="4714920"/>
            <a:ext cx="2174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584520" y="4803840"/>
            <a:ext cx="10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Righ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454560" y="52815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ow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2873160" y="544356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6581880" y="43099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rting with pt A measure 5cm right and 3cm d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 that A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581880" y="43099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6269040" y="3033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8069400" y="30481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8026560" y="41068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6794640" y="268596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8028000" y="340992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2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2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000"/>
                            </p:stCondLst>
                            <p:childTnLst>
                              <p:par>
                                <p:cTn id="82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eat for pt B measure 5cm right and 3cm d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 that B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5830920" y="39751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7631280" y="39895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356520" y="362736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7589880" y="433692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2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2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40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B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25720" y="3068640"/>
            <a:ext cx="14828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84920" y="3068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40560" y="32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56200" y="1495440"/>
            <a:ext cx="3419640" cy="3382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464680" y="169236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8"/>
                  <a:pt x="20" y="16"/>
                  <a:pt x="28" y="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10520" y="1573200"/>
            <a:ext cx="851040" cy="649440"/>
          </a:xfrm>
          <a:custGeom>
            <a:avLst/>
            <a:gdLst/>
            <a:ahLst/>
            <a:rect l="l" t="t" r="r" b="b"/>
            <a:pathLst>
              <a:path w="536" h="409">
                <a:moveTo>
                  <a:pt x="92" y="23"/>
                </a:moveTo>
                <a:cubicBezTo>
                  <a:pt x="96" y="35"/>
                  <a:pt x="98" y="46"/>
                  <a:pt x="104" y="57"/>
                </a:cubicBezTo>
                <a:cubicBezTo>
                  <a:pt x="106" y="61"/>
                  <a:pt x="112" y="69"/>
                  <a:pt x="112" y="69"/>
                </a:cubicBezTo>
                <a:cubicBezTo>
                  <a:pt x="91" y="76"/>
                  <a:pt x="64" y="46"/>
                  <a:pt x="44" y="39"/>
                </a:cubicBezTo>
                <a:cubicBezTo>
                  <a:pt x="30" y="25"/>
                  <a:pt x="37" y="30"/>
                  <a:pt x="26" y="23"/>
                </a:cubicBezTo>
                <a:cubicBezTo>
                  <a:pt x="11" y="0"/>
                  <a:pt x="3" y="35"/>
                  <a:pt x="0" y="49"/>
                </a:cubicBezTo>
                <a:cubicBezTo>
                  <a:pt x="5" y="123"/>
                  <a:pt x="41" y="149"/>
                  <a:pt x="98" y="189"/>
                </a:cubicBezTo>
                <a:cubicBezTo>
                  <a:pt x="118" y="203"/>
                  <a:pt x="136" y="217"/>
                  <a:pt x="158" y="227"/>
                </a:cubicBezTo>
                <a:cubicBezTo>
                  <a:pt x="183" y="238"/>
                  <a:pt x="209" y="246"/>
                  <a:pt x="234" y="257"/>
                </a:cubicBezTo>
                <a:cubicBezTo>
                  <a:pt x="242" y="260"/>
                  <a:pt x="248" y="266"/>
                  <a:pt x="256" y="269"/>
                </a:cubicBezTo>
                <a:cubicBezTo>
                  <a:pt x="260" y="271"/>
                  <a:pt x="268" y="273"/>
                  <a:pt x="268" y="273"/>
                </a:cubicBezTo>
                <a:cubicBezTo>
                  <a:pt x="280" y="285"/>
                  <a:pt x="295" y="294"/>
                  <a:pt x="308" y="303"/>
                </a:cubicBezTo>
                <a:cubicBezTo>
                  <a:pt x="313" y="311"/>
                  <a:pt x="321" y="318"/>
                  <a:pt x="330" y="321"/>
                </a:cubicBezTo>
                <a:cubicBezTo>
                  <a:pt x="340" y="335"/>
                  <a:pt x="391" y="369"/>
                  <a:pt x="408" y="377"/>
                </a:cubicBezTo>
                <a:cubicBezTo>
                  <a:pt x="421" y="397"/>
                  <a:pt x="445" y="397"/>
                  <a:pt x="466" y="401"/>
                </a:cubicBezTo>
                <a:cubicBezTo>
                  <a:pt x="497" y="397"/>
                  <a:pt x="469" y="403"/>
                  <a:pt x="486" y="395"/>
                </a:cubicBezTo>
                <a:cubicBezTo>
                  <a:pt x="490" y="393"/>
                  <a:pt x="498" y="391"/>
                  <a:pt x="498" y="391"/>
                </a:cubicBezTo>
                <a:cubicBezTo>
                  <a:pt x="507" y="405"/>
                  <a:pt x="504" y="398"/>
                  <a:pt x="508" y="409"/>
                </a:cubicBezTo>
                <a:cubicBezTo>
                  <a:pt x="525" y="403"/>
                  <a:pt x="518" y="387"/>
                  <a:pt x="532" y="377"/>
                </a:cubicBezTo>
                <a:cubicBezTo>
                  <a:pt x="534" y="370"/>
                  <a:pt x="532" y="371"/>
                  <a:pt x="536" y="37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67760" y="1333440"/>
            <a:ext cx="168120" cy="3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50280" y="16732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5" y="0"/>
                </a:moveTo>
                <a:cubicBezTo>
                  <a:pt x="2" y="15"/>
                  <a:pt x="0" y="26"/>
                  <a:pt x="5" y="42"/>
                </a:cubicBezTo>
                <a:cubicBezTo>
                  <a:pt x="16" y="41"/>
                  <a:pt x="29" y="45"/>
                  <a:pt x="39" y="40"/>
                </a:cubicBezTo>
                <a:cubicBezTo>
                  <a:pt x="43" y="38"/>
                  <a:pt x="36" y="32"/>
                  <a:pt x="35" y="28"/>
                </a:cubicBezTo>
                <a:cubicBezTo>
                  <a:pt x="30" y="14"/>
                  <a:pt x="18" y="7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572680" y="1760400"/>
            <a:ext cx="172800" cy="111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0" y="13"/>
                </a:moveTo>
                <a:cubicBezTo>
                  <a:pt x="6" y="3"/>
                  <a:pt x="2" y="8"/>
                  <a:pt x="16" y="3"/>
                </a:cubicBezTo>
                <a:cubicBezTo>
                  <a:pt x="18" y="2"/>
                  <a:pt x="22" y="1"/>
                  <a:pt x="22" y="1"/>
                </a:cubicBezTo>
                <a:cubicBezTo>
                  <a:pt x="29" y="2"/>
                  <a:pt x="38" y="0"/>
                  <a:pt x="44" y="3"/>
                </a:cubicBezTo>
                <a:cubicBezTo>
                  <a:pt x="48" y="5"/>
                  <a:pt x="45" y="12"/>
                  <a:pt x="48" y="15"/>
                </a:cubicBezTo>
                <a:cubicBezTo>
                  <a:pt x="56" y="21"/>
                  <a:pt x="60" y="25"/>
                  <a:pt x="70" y="27"/>
                </a:cubicBezTo>
                <a:cubicBezTo>
                  <a:pt x="79" y="33"/>
                  <a:pt x="80" y="38"/>
                  <a:pt x="84" y="49"/>
                </a:cubicBezTo>
                <a:cubicBezTo>
                  <a:pt x="85" y="52"/>
                  <a:pt x="99" y="57"/>
                  <a:pt x="102" y="59"/>
                </a:cubicBezTo>
                <a:cubicBezTo>
                  <a:pt x="109" y="70"/>
                  <a:pt x="96" y="68"/>
                  <a:pt x="86" y="69"/>
                </a:cubicBezTo>
                <a:cubicBezTo>
                  <a:pt x="58" y="66"/>
                  <a:pt x="63" y="55"/>
                  <a:pt x="40" y="47"/>
                </a:cubicBezTo>
                <a:cubicBezTo>
                  <a:pt x="32" y="39"/>
                  <a:pt x="25" y="30"/>
                  <a:pt x="18" y="23"/>
                </a:cubicBezTo>
                <a:cubicBezTo>
                  <a:pt x="13" y="18"/>
                  <a:pt x="0" y="13"/>
                  <a:pt x="0" y="13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858160" y="1930320"/>
            <a:ext cx="60480" cy="200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eat for pts C and D measure 5cm right and 3cm d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ing them C’ and D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829480" y="53229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7629480" y="5336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7586640" y="6396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7621560" y="6265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6354720" y="497520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6627960" y="44672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8427960" y="44816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8385120" y="554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8420040" y="54100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7153200" y="411948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591320" y="567216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8373960" y="475776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4000"/>
                            </p:stCondLst>
                            <p:childTnLst>
                              <p:par>
                                <p:cTn id="87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7" dur="2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0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2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2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4000"/>
                            </p:stCondLst>
                            <p:childTnLst>
                              <p:par>
                                <p:cTn id="90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2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90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 up the points A’ B’ C’ and D’ in or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7586640" y="6396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621560" y="6265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8385120" y="554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8420040" y="54100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7659720" y="4149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8" dur="2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translat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[ 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586640" y="6396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621560" y="6265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8385120" y="554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8420040" y="54100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7659720" y="4149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051000" y="2800440"/>
            <a:ext cx="5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4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ff00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n Enlargement you need 3 thing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enlar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ntre of enlar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cale fac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ay how big to make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473880" y="3645000"/>
            <a:ext cx="963720" cy="2016000"/>
            <a:chOff x="6473880" y="3645000"/>
            <a:chExt cx="963720" cy="2016000"/>
          </a:xfrm>
        </p:grpSpPr>
        <p:sp>
          <p:nvSpPr>
            <p:cNvPr id="1468" name=""/>
            <p:cNvSpPr/>
            <p:nvPr/>
          </p:nvSpPr>
          <p:spPr>
            <a:xfrm>
              <a:off x="6473880" y="3645000"/>
              <a:ext cx="0" cy="201600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977160" y="3645000"/>
              <a:ext cx="0" cy="201600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437600" y="3645000"/>
              <a:ext cx="0" cy="201600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1" name=""/>
          <p:cNvSpPr/>
          <p:nvPr/>
        </p:nvSpPr>
        <p:spPr>
          <a:xfrm>
            <a:off x="6012000" y="406224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012000" y="440856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6012000" y="476892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6012000" y="515772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large the shape ABCD by a scale factor of 3 about the point C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ule a line from the centre of enlargement trough each of the points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this case C is cent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2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0" dur="2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2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 the distance from the centre to each of the point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this case C is cent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 each of the distances by the scale fact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this case 3 is Scale fact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30760" y="2523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 3 = 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415280" y="2610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 3 = 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5207040" y="4116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 3 = 5.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asure that far along each of the lines from the centre and mark A’, B’ and D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oint C doesn’t move as it’s the centre of enlargem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243400" y="1612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108400" y="3940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8020080" y="1568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5587920" y="1843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8272440" y="1841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5410080" y="3987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5630760" y="2523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415280" y="2610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5467320" y="4160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.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630760" y="1887480"/>
            <a:ext cx="1351080" cy="3235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6996240" y="1915920"/>
            <a:ext cx="1306440" cy="3251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flipH="1" flipV="1">
            <a:off x="5486400" y="4063680"/>
            <a:ext cx="1495440" cy="1074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2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2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4" dur="2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2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2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2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oin the points of the image A’, B’ C and D’ with a rul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oint C doesn’t move as it’s the centre of enlargem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5243400" y="1612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5108400" y="3940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5587920" y="1843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8272440" y="1841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5410080" y="3987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5630760" y="2523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7415280" y="2610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5467320" y="4160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.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5460840" y="1882800"/>
            <a:ext cx="2860920" cy="3267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8020080" y="1568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42" dur="3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6" dur="2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9" dur="2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2" dur="2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2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0" dur="20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3" dur="2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8" dur="2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1" dur="2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4" dur="20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the 2 arcs cross join with a Straight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13120" y="3068640"/>
            <a:ext cx="1495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56200" y="14954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38640" y="2378160"/>
            <a:ext cx="2914920" cy="334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4680" y="169236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8"/>
                  <a:pt x="20" y="16"/>
                  <a:pt x="28" y="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10520" y="1573200"/>
            <a:ext cx="851040" cy="649440"/>
          </a:xfrm>
          <a:custGeom>
            <a:avLst/>
            <a:gdLst/>
            <a:ahLst/>
            <a:rect l="l" t="t" r="r" b="b"/>
            <a:pathLst>
              <a:path w="536" h="409">
                <a:moveTo>
                  <a:pt x="92" y="23"/>
                </a:moveTo>
                <a:cubicBezTo>
                  <a:pt x="96" y="35"/>
                  <a:pt x="98" y="46"/>
                  <a:pt x="104" y="57"/>
                </a:cubicBezTo>
                <a:cubicBezTo>
                  <a:pt x="106" y="61"/>
                  <a:pt x="112" y="69"/>
                  <a:pt x="112" y="69"/>
                </a:cubicBezTo>
                <a:cubicBezTo>
                  <a:pt x="91" y="76"/>
                  <a:pt x="64" y="46"/>
                  <a:pt x="44" y="39"/>
                </a:cubicBezTo>
                <a:cubicBezTo>
                  <a:pt x="30" y="25"/>
                  <a:pt x="37" y="30"/>
                  <a:pt x="26" y="23"/>
                </a:cubicBezTo>
                <a:cubicBezTo>
                  <a:pt x="11" y="0"/>
                  <a:pt x="3" y="35"/>
                  <a:pt x="0" y="49"/>
                </a:cubicBezTo>
                <a:cubicBezTo>
                  <a:pt x="5" y="123"/>
                  <a:pt x="41" y="149"/>
                  <a:pt x="98" y="189"/>
                </a:cubicBezTo>
                <a:cubicBezTo>
                  <a:pt x="118" y="203"/>
                  <a:pt x="136" y="217"/>
                  <a:pt x="158" y="227"/>
                </a:cubicBezTo>
                <a:cubicBezTo>
                  <a:pt x="183" y="238"/>
                  <a:pt x="209" y="246"/>
                  <a:pt x="234" y="257"/>
                </a:cubicBezTo>
                <a:cubicBezTo>
                  <a:pt x="242" y="260"/>
                  <a:pt x="248" y="266"/>
                  <a:pt x="256" y="269"/>
                </a:cubicBezTo>
                <a:cubicBezTo>
                  <a:pt x="260" y="271"/>
                  <a:pt x="268" y="273"/>
                  <a:pt x="268" y="273"/>
                </a:cubicBezTo>
                <a:cubicBezTo>
                  <a:pt x="280" y="285"/>
                  <a:pt x="295" y="294"/>
                  <a:pt x="308" y="303"/>
                </a:cubicBezTo>
                <a:cubicBezTo>
                  <a:pt x="313" y="311"/>
                  <a:pt x="321" y="318"/>
                  <a:pt x="330" y="321"/>
                </a:cubicBezTo>
                <a:cubicBezTo>
                  <a:pt x="340" y="335"/>
                  <a:pt x="391" y="369"/>
                  <a:pt x="408" y="377"/>
                </a:cubicBezTo>
                <a:cubicBezTo>
                  <a:pt x="421" y="397"/>
                  <a:pt x="445" y="397"/>
                  <a:pt x="466" y="401"/>
                </a:cubicBezTo>
                <a:cubicBezTo>
                  <a:pt x="497" y="397"/>
                  <a:pt x="469" y="403"/>
                  <a:pt x="486" y="395"/>
                </a:cubicBezTo>
                <a:cubicBezTo>
                  <a:pt x="490" y="393"/>
                  <a:pt x="498" y="391"/>
                  <a:pt x="498" y="391"/>
                </a:cubicBezTo>
                <a:cubicBezTo>
                  <a:pt x="507" y="405"/>
                  <a:pt x="504" y="398"/>
                  <a:pt x="508" y="409"/>
                </a:cubicBezTo>
                <a:cubicBezTo>
                  <a:pt x="525" y="403"/>
                  <a:pt x="518" y="387"/>
                  <a:pt x="532" y="377"/>
                </a:cubicBezTo>
                <a:cubicBezTo>
                  <a:pt x="534" y="370"/>
                  <a:pt x="532" y="371"/>
                  <a:pt x="536" y="37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67760" y="1333440"/>
            <a:ext cx="168120" cy="3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450280" y="16732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5" y="0"/>
                </a:moveTo>
                <a:cubicBezTo>
                  <a:pt x="2" y="15"/>
                  <a:pt x="0" y="26"/>
                  <a:pt x="5" y="42"/>
                </a:cubicBezTo>
                <a:cubicBezTo>
                  <a:pt x="16" y="41"/>
                  <a:pt x="29" y="45"/>
                  <a:pt x="39" y="40"/>
                </a:cubicBezTo>
                <a:cubicBezTo>
                  <a:pt x="43" y="38"/>
                  <a:pt x="36" y="32"/>
                  <a:pt x="35" y="28"/>
                </a:cubicBezTo>
                <a:cubicBezTo>
                  <a:pt x="30" y="14"/>
                  <a:pt x="18" y="7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572680" y="1760400"/>
            <a:ext cx="172800" cy="111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0" y="13"/>
                </a:moveTo>
                <a:cubicBezTo>
                  <a:pt x="6" y="3"/>
                  <a:pt x="2" y="8"/>
                  <a:pt x="16" y="3"/>
                </a:cubicBezTo>
                <a:cubicBezTo>
                  <a:pt x="18" y="2"/>
                  <a:pt x="22" y="1"/>
                  <a:pt x="22" y="1"/>
                </a:cubicBezTo>
                <a:cubicBezTo>
                  <a:pt x="29" y="2"/>
                  <a:pt x="38" y="0"/>
                  <a:pt x="44" y="3"/>
                </a:cubicBezTo>
                <a:cubicBezTo>
                  <a:pt x="48" y="5"/>
                  <a:pt x="45" y="12"/>
                  <a:pt x="48" y="15"/>
                </a:cubicBezTo>
                <a:cubicBezTo>
                  <a:pt x="56" y="21"/>
                  <a:pt x="60" y="25"/>
                  <a:pt x="70" y="27"/>
                </a:cubicBezTo>
                <a:cubicBezTo>
                  <a:pt x="79" y="33"/>
                  <a:pt x="80" y="38"/>
                  <a:pt x="84" y="49"/>
                </a:cubicBezTo>
                <a:cubicBezTo>
                  <a:pt x="85" y="52"/>
                  <a:pt x="99" y="57"/>
                  <a:pt x="102" y="59"/>
                </a:cubicBezTo>
                <a:cubicBezTo>
                  <a:pt x="109" y="70"/>
                  <a:pt x="96" y="68"/>
                  <a:pt x="86" y="69"/>
                </a:cubicBezTo>
                <a:cubicBezTo>
                  <a:pt x="58" y="66"/>
                  <a:pt x="63" y="55"/>
                  <a:pt x="40" y="47"/>
                </a:cubicBezTo>
                <a:cubicBezTo>
                  <a:pt x="32" y="39"/>
                  <a:pt x="25" y="30"/>
                  <a:pt x="18" y="23"/>
                </a:cubicBezTo>
                <a:cubicBezTo>
                  <a:pt x="13" y="18"/>
                  <a:pt x="0" y="13"/>
                  <a:pt x="0" y="13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858160" y="1930320"/>
            <a:ext cx="60480" cy="200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n enlargement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cale factor of 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bou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oint 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460840" y="1882800"/>
            <a:ext cx="2860920" cy="3267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243400" y="1612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8020080" y="1568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5108400" y="3940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the locus of point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ess than 4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om point 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your compass to the maximum or minimum distance for the loc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 this case 4 c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446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full circle with the compass point on 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This is the locus of points exactly 4c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from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2" name=""/>
          <p:cNvSpPr/>
          <p:nvPr/>
        </p:nvSpPr>
        <p:spPr>
          <a:xfrm>
            <a:off x="5149800" y="24670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6448320" y="3776760"/>
            <a:ext cx="287280" cy="288720"/>
            <a:chOff x="6448320" y="3776760"/>
            <a:chExt cx="287280" cy="288720"/>
          </a:xfrm>
        </p:grpSpPr>
        <p:sp>
          <p:nvSpPr>
            <p:cNvPr id="1596" name=""/>
            <p:cNvSpPr/>
            <p:nvPr/>
          </p:nvSpPr>
          <p:spPr>
            <a:xfrm>
              <a:off x="6592680" y="37767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448320" y="39211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87" dur="2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9" dur="2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5149800" y="24670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395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de inside the circ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This is to represent the locus of points less than  4cm from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"/>
          <p:cNvSpPr/>
          <p:nvPr/>
        </p:nvSpPr>
        <p:spPr>
          <a:xfrm>
            <a:off x="5151600" y="2468520"/>
            <a:ext cx="2879640" cy="2879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7" dur="2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"/>
          <p:cNvSpPr/>
          <p:nvPr/>
        </p:nvSpPr>
        <p:spPr>
          <a:xfrm>
            <a:off x="5151600" y="2468520"/>
            <a:ext cx="2879640" cy="2879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Locus of points less than 4 cm from point 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the locus of point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ine 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2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your compass to the maximum or minimum distance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 this Case 2c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>
            <a:off x="5689440" y="267984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truct a line parallel to AB above and below the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"/>
          <p:cNvSpPr/>
          <p:nvPr/>
        </p:nvSpPr>
        <p:spPr>
          <a:xfrm>
            <a:off x="5664240" y="1689120"/>
            <a:ext cx="2832120" cy="27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003640" y="2019240"/>
            <a:ext cx="144000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6350040" y="331488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4978440" y="1930320"/>
            <a:ext cx="888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5600880" y="2540160"/>
            <a:ext cx="888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6248520" y="3137040"/>
            <a:ext cx="888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7061040" y="3949560"/>
            <a:ext cx="88920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5597640" y="2595600"/>
            <a:ext cx="287280" cy="288720"/>
            <a:chOff x="5597640" y="2595600"/>
            <a:chExt cx="287280" cy="288720"/>
          </a:xfrm>
        </p:grpSpPr>
        <p:sp>
          <p:nvSpPr>
            <p:cNvPr id="1633" name=""/>
            <p:cNvSpPr/>
            <p:nvPr/>
          </p:nvSpPr>
          <p:spPr>
            <a:xfrm>
              <a:off x="5742000" y="2595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597640" y="2739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6943680" y="3903840"/>
            <a:ext cx="287280" cy="288720"/>
            <a:chOff x="6943680" y="3903840"/>
            <a:chExt cx="287280" cy="288720"/>
          </a:xfrm>
        </p:grpSpPr>
        <p:sp>
          <p:nvSpPr>
            <p:cNvPr id="1636" name=""/>
            <p:cNvSpPr/>
            <p:nvPr/>
          </p:nvSpPr>
          <p:spPr>
            <a:xfrm>
              <a:off x="7088040" y="39038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943680" y="40482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6232680" y="3218040"/>
            <a:ext cx="287280" cy="288720"/>
            <a:chOff x="6232680" y="3218040"/>
            <a:chExt cx="287280" cy="288720"/>
          </a:xfrm>
        </p:grpSpPr>
        <p:sp>
          <p:nvSpPr>
            <p:cNvPr id="1639" name=""/>
            <p:cNvSpPr/>
            <p:nvPr/>
          </p:nvSpPr>
          <p:spPr>
            <a:xfrm>
              <a:off x="6377040" y="32180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232680" y="33624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4330800" y="2400480"/>
            <a:ext cx="3098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8" dur="20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1" dur="1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21" dur="2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4" dur="1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4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7" dur="1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20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2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were no end points specified then this would be where we sto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"/>
          <p:cNvSpPr/>
          <p:nvPr/>
        </p:nvSpPr>
        <p:spPr>
          <a:xfrm>
            <a:off x="5664240" y="1689120"/>
            <a:ext cx="2832120" cy="27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330800" y="2400480"/>
            <a:ext cx="3098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56200" y="14954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38640" y="2378160"/>
            <a:ext cx="2914920" cy="334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54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rpendicular Bisect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line A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464680" y="169236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8"/>
                  <a:pt x="20" y="16"/>
                  <a:pt x="28" y="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10520" y="1573200"/>
            <a:ext cx="851040" cy="649440"/>
          </a:xfrm>
          <a:custGeom>
            <a:avLst/>
            <a:gdLst/>
            <a:ahLst/>
            <a:rect l="l" t="t" r="r" b="b"/>
            <a:pathLst>
              <a:path w="536" h="409">
                <a:moveTo>
                  <a:pt x="92" y="23"/>
                </a:moveTo>
                <a:cubicBezTo>
                  <a:pt x="96" y="35"/>
                  <a:pt x="98" y="46"/>
                  <a:pt x="104" y="57"/>
                </a:cubicBezTo>
                <a:cubicBezTo>
                  <a:pt x="106" y="61"/>
                  <a:pt x="112" y="69"/>
                  <a:pt x="112" y="69"/>
                </a:cubicBezTo>
                <a:cubicBezTo>
                  <a:pt x="91" y="76"/>
                  <a:pt x="64" y="46"/>
                  <a:pt x="44" y="39"/>
                </a:cubicBezTo>
                <a:cubicBezTo>
                  <a:pt x="30" y="25"/>
                  <a:pt x="37" y="30"/>
                  <a:pt x="26" y="23"/>
                </a:cubicBezTo>
                <a:cubicBezTo>
                  <a:pt x="11" y="0"/>
                  <a:pt x="3" y="35"/>
                  <a:pt x="0" y="49"/>
                </a:cubicBezTo>
                <a:cubicBezTo>
                  <a:pt x="5" y="123"/>
                  <a:pt x="41" y="149"/>
                  <a:pt x="98" y="189"/>
                </a:cubicBezTo>
                <a:cubicBezTo>
                  <a:pt x="118" y="203"/>
                  <a:pt x="136" y="217"/>
                  <a:pt x="158" y="227"/>
                </a:cubicBezTo>
                <a:cubicBezTo>
                  <a:pt x="183" y="238"/>
                  <a:pt x="209" y="246"/>
                  <a:pt x="234" y="257"/>
                </a:cubicBezTo>
                <a:cubicBezTo>
                  <a:pt x="242" y="260"/>
                  <a:pt x="248" y="266"/>
                  <a:pt x="256" y="269"/>
                </a:cubicBezTo>
                <a:cubicBezTo>
                  <a:pt x="260" y="271"/>
                  <a:pt x="268" y="273"/>
                  <a:pt x="268" y="273"/>
                </a:cubicBezTo>
                <a:cubicBezTo>
                  <a:pt x="280" y="285"/>
                  <a:pt x="295" y="294"/>
                  <a:pt x="308" y="303"/>
                </a:cubicBezTo>
                <a:cubicBezTo>
                  <a:pt x="313" y="311"/>
                  <a:pt x="321" y="318"/>
                  <a:pt x="330" y="321"/>
                </a:cubicBezTo>
                <a:cubicBezTo>
                  <a:pt x="340" y="335"/>
                  <a:pt x="391" y="369"/>
                  <a:pt x="408" y="377"/>
                </a:cubicBezTo>
                <a:cubicBezTo>
                  <a:pt x="421" y="397"/>
                  <a:pt x="445" y="397"/>
                  <a:pt x="466" y="401"/>
                </a:cubicBezTo>
                <a:cubicBezTo>
                  <a:pt x="497" y="397"/>
                  <a:pt x="469" y="403"/>
                  <a:pt x="486" y="395"/>
                </a:cubicBezTo>
                <a:cubicBezTo>
                  <a:pt x="490" y="393"/>
                  <a:pt x="498" y="391"/>
                  <a:pt x="498" y="391"/>
                </a:cubicBezTo>
                <a:cubicBezTo>
                  <a:pt x="507" y="405"/>
                  <a:pt x="504" y="398"/>
                  <a:pt x="508" y="409"/>
                </a:cubicBezTo>
                <a:cubicBezTo>
                  <a:pt x="525" y="403"/>
                  <a:pt x="518" y="387"/>
                  <a:pt x="532" y="377"/>
                </a:cubicBezTo>
                <a:cubicBezTo>
                  <a:pt x="534" y="370"/>
                  <a:pt x="532" y="371"/>
                  <a:pt x="536" y="37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267760" y="1333440"/>
            <a:ext cx="168120" cy="3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450280" y="16732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5" y="0"/>
                </a:moveTo>
                <a:cubicBezTo>
                  <a:pt x="2" y="15"/>
                  <a:pt x="0" y="26"/>
                  <a:pt x="5" y="42"/>
                </a:cubicBezTo>
                <a:cubicBezTo>
                  <a:pt x="16" y="41"/>
                  <a:pt x="29" y="45"/>
                  <a:pt x="39" y="40"/>
                </a:cubicBezTo>
                <a:cubicBezTo>
                  <a:pt x="43" y="38"/>
                  <a:pt x="36" y="32"/>
                  <a:pt x="35" y="28"/>
                </a:cubicBezTo>
                <a:cubicBezTo>
                  <a:pt x="30" y="14"/>
                  <a:pt x="18" y="7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572680" y="1760400"/>
            <a:ext cx="172800" cy="111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0" y="13"/>
                </a:moveTo>
                <a:cubicBezTo>
                  <a:pt x="6" y="3"/>
                  <a:pt x="2" y="8"/>
                  <a:pt x="16" y="3"/>
                </a:cubicBezTo>
                <a:cubicBezTo>
                  <a:pt x="18" y="2"/>
                  <a:pt x="22" y="1"/>
                  <a:pt x="22" y="1"/>
                </a:cubicBezTo>
                <a:cubicBezTo>
                  <a:pt x="29" y="2"/>
                  <a:pt x="38" y="0"/>
                  <a:pt x="44" y="3"/>
                </a:cubicBezTo>
                <a:cubicBezTo>
                  <a:pt x="48" y="5"/>
                  <a:pt x="45" y="12"/>
                  <a:pt x="48" y="15"/>
                </a:cubicBezTo>
                <a:cubicBezTo>
                  <a:pt x="56" y="21"/>
                  <a:pt x="60" y="25"/>
                  <a:pt x="70" y="27"/>
                </a:cubicBezTo>
                <a:cubicBezTo>
                  <a:pt x="79" y="33"/>
                  <a:pt x="80" y="38"/>
                  <a:pt x="84" y="49"/>
                </a:cubicBezTo>
                <a:cubicBezTo>
                  <a:pt x="85" y="52"/>
                  <a:pt x="99" y="57"/>
                  <a:pt x="102" y="59"/>
                </a:cubicBezTo>
                <a:cubicBezTo>
                  <a:pt x="109" y="70"/>
                  <a:pt x="96" y="68"/>
                  <a:pt x="86" y="69"/>
                </a:cubicBezTo>
                <a:cubicBezTo>
                  <a:pt x="58" y="66"/>
                  <a:pt x="63" y="55"/>
                  <a:pt x="40" y="47"/>
                </a:cubicBezTo>
                <a:cubicBezTo>
                  <a:pt x="32" y="39"/>
                  <a:pt x="25" y="30"/>
                  <a:pt x="18" y="23"/>
                </a:cubicBezTo>
                <a:cubicBezTo>
                  <a:pt x="13" y="18"/>
                  <a:pt x="0" y="13"/>
                  <a:pt x="0" y="13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858160" y="1930320"/>
            <a:ext cx="60480" cy="200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10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endpoints are specifi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 2cm semicircle around each of the points A and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ase the excess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"/>
          <p:cNvSpPr/>
          <p:nvPr/>
        </p:nvSpPr>
        <p:spPr>
          <a:xfrm>
            <a:off x="5003640" y="2019240"/>
            <a:ext cx="144000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6350040" y="331488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5270400" y="2260440"/>
            <a:ext cx="2222640" cy="22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5232240" y="2235240"/>
            <a:ext cx="2349720" cy="2324160"/>
            <a:chOff x="5232240" y="2235240"/>
            <a:chExt cx="2349720" cy="2324160"/>
          </a:xfrm>
        </p:grpSpPr>
        <p:sp>
          <p:nvSpPr>
            <p:cNvPr id="1657" name=""/>
            <p:cNvSpPr/>
            <p:nvPr/>
          </p:nvSpPr>
          <p:spPr>
            <a:xfrm>
              <a:off x="5740560" y="2743200"/>
              <a:ext cx="1346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235560" y="2235240"/>
              <a:ext cx="1346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232240" y="3263760"/>
              <a:ext cx="13464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0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5664240" y="1689120"/>
            <a:ext cx="2832120" cy="27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4330800" y="2400480"/>
            <a:ext cx="3098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6154560" y="5514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5002200" y="2017800"/>
            <a:ext cx="1440000" cy="1439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6353280" y="3309840"/>
            <a:ext cx="1439640" cy="14400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370560" y="5730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5" dur="50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9" dur="50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4" dur="2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7" dur="2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2" dur="2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2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79" dur="2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82" dur="2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5" dur="2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8" dur="2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the Locus of point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c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ine A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5003640" y="2019240"/>
            <a:ext cx="144000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6350040" y="331488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270400" y="2260440"/>
            <a:ext cx="2222640" cy="22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5" name=""/>
          <p:cNvGrpSpPr/>
          <p:nvPr/>
        </p:nvGrpSpPr>
        <p:grpSpPr>
          <a:xfrm>
            <a:off x="5232240" y="2235240"/>
            <a:ext cx="2349720" cy="2324160"/>
            <a:chOff x="5232240" y="2235240"/>
            <a:chExt cx="2349720" cy="2324160"/>
          </a:xfrm>
        </p:grpSpPr>
        <p:sp>
          <p:nvSpPr>
            <p:cNvPr id="1676" name=""/>
            <p:cNvSpPr/>
            <p:nvPr/>
          </p:nvSpPr>
          <p:spPr>
            <a:xfrm>
              <a:off x="5740560" y="2743200"/>
              <a:ext cx="1346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35560" y="2235240"/>
              <a:ext cx="1346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232240" y="3263760"/>
              <a:ext cx="13464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the locus of point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equidistan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 th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points A and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4521240" y="3251160"/>
            <a:ext cx="393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889520" y="4584600"/>
            <a:ext cx="21844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This means in the 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 we need to find a set of points that go straight through the midd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y a perpendicular bisec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5643720" y="3630600"/>
            <a:ext cx="287280" cy="288720"/>
            <a:chOff x="5643720" y="3630600"/>
            <a:chExt cx="287280" cy="288720"/>
          </a:xfrm>
        </p:grpSpPr>
        <p:sp>
          <p:nvSpPr>
            <p:cNvPr id="1694" name=""/>
            <p:cNvSpPr/>
            <p:nvPr/>
          </p:nvSpPr>
          <p:spPr>
            <a:xfrm>
              <a:off x="5788080" y="3630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643720" y="3774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7192800" y="3770280"/>
            <a:ext cx="287280" cy="288720"/>
            <a:chOff x="7192800" y="3770280"/>
            <a:chExt cx="287280" cy="288720"/>
          </a:xfrm>
        </p:grpSpPr>
        <p:sp>
          <p:nvSpPr>
            <p:cNvPr id="1697" name=""/>
            <p:cNvSpPr/>
            <p:nvPr/>
          </p:nvSpPr>
          <p:spPr>
            <a:xfrm>
              <a:off x="7337160" y="377028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192800" y="3914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9" name=""/>
          <p:cNvSpPr/>
          <p:nvPr/>
        </p:nvSpPr>
        <p:spPr>
          <a:xfrm>
            <a:off x="4876920" y="2870280"/>
            <a:ext cx="180000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6426360" y="3009960"/>
            <a:ext cx="180000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 flipH="1">
            <a:off x="6387840" y="2413080"/>
            <a:ext cx="29196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4915080" y="2844720"/>
            <a:ext cx="148572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6819840" y="2984400"/>
            <a:ext cx="135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769080" y="4483080"/>
            <a:ext cx="135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4876920" y="4203720"/>
            <a:ext cx="135864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826160" y="3276720"/>
            <a:ext cx="24120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429000"/>
            <a:ext cx="2412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2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0" dur="2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2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2" dur="2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5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2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hat any point on the line is the same distance from A as it is from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6387840" y="2413080"/>
            <a:ext cx="29196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6575400" y="30909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5805360" y="3134880"/>
            <a:ext cx="812880" cy="6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6603840" y="3121200"/>
            <a:ext cx="725760" cy="798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5605560" y="316404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6894360" y="326376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2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gratulations that is the Locus of Point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quidistan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ints A and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6387840" y="2413080"/>
            <a:ext cx="29196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59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are drawings done using a compass and a ruler and not measuring distances if poss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form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are operations done to a shape to move it and shift it around the page without changing the sha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a series of points, a line or a shape that fits a certain set of rules (ie is always 2cm from a poi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7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6154560" y="5514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1000" fill="hold"/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1000" fill="hold"/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1000" fill="hold"/>
                                        <p:tgtEl>
                                          <p:spTgt spid="1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1000" fill="hold"/>
                                        <p:tgtEl>
                                          <p:spTgt spid="1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6" dur="5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1000" fill="hold"/>
                                        <p:tgtEl>
                                          <p:spTgt spid="1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1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1000" fill="hold"/>
                                        <p:tgtEl>
                                          <p:spTgt spid="1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1000" fill="hold"/>
                                        <p:tgtEl>
                                          <p:spTgt spid="1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0" dur="5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1000" fill="hold"/>
                                        <p:tgtEl>
                                          <p:spTgt spid="1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1000" fill="hold"/>
                                        <p:tgtEl>
                                          <p:spTgt spid="1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p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"/>
          <p:cNvSpPr/>
          <p:nvPr/>
        </p:nvSpPr>
        <p:spPr>
          <a:xfrm>
            <a:off x="37306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6154560" y="5514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957400" y="2184480"/>
            <a:ext cx="2306880" cy="63792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79" h="21600">
                <a:moveTo>
                  <a:pt x="0" y="0"/>
                </a:moveTo>
                <a:lnTo>
                  <a:pt x="78079" y="0"/>
                </a:lnTo>
                <a:lnTo>
                  <a:pt x="78079" y="21600"/>
                </a:lnTo>
                <a:lnTo>
                  <a:pt x="0" y="21600"/>
                </a:lnTo>
                <a:close/>
              </a:path>
              <a:path fill="lightenLess" w="78079" h="21600">
                <a:moveTo>
                  <a:pt x="0" y="0"/>
                </a:moveTo>
                <a:lnTo>
                  <a:pt x="78079" y="0"/>
                </a:lnTo>
                <a:lnTo>
                  <a:pt x="76679" y="1400"/>
                </a:lnTo>
                <a:lnTo>
                  <a:pt x="1400" y="1400"/>
                </a:lnTo>
                <a:close/>
              </a:path>
              <a:path fill="darken" w="78079" h="21600">
                <a:moveTo>
                  <a:pt x="78079" y="0"/>
                </a:moveTo>
                <a:lnTo>
                  <a:pt x="78079" y="21600"/>
                </a:lnTo>
                <a:lnTo>
                  <a:pt x="76679" y="20200"/>
                </a:lnTo>
                <a:lnTo>
                  <a:pt x="76679" y="1400"/>
                </a:lnTo>
                <a:close/>
              </a:path>
              <a:path fill="darkenLess" w="78079" h="21600">
                <a:moveTo>
                  <a:pt x="7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79" y="20200"/>
                </a:lnTo>
                <a:close/>
              </a:path>
              <a:path fill="lighten" w="7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2943360" y="21700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2959200" y="291132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2959200" y="29113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957400" y="3666960"/>
            <a:ext cx="2306880" cy="63828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35" h="21600">
                <a:moveTo>
                  <a:pt x="0" y="0"/>
                </a:moveTo>
                <a:lnTo>
                  <a:pt x="78035" y="0"/>
                </a:lnTo>
                <a:lnTo>
                  <a:pt x="78035" y="21600"/>
                </a:lnTo>
                <a:lnTo>
                  <a:pt x="0" y="21600"/>
                </a:lnTo>
                <a:close/>
              </a:path>
              <a:path fill="lightenLess" w="78035" h="21600">
                <a:moveTo>
                  <a:pt x="0" y="0"/>
                </a:moveTo>
                <a:lnTo>
                  <a:pt x="78035" y="0"/>
                </a:lnTo>
                <a:lnTo>
                  <a:pt x="76635" y="1400"/>
                </a:lnTo>
                <a:lnTo>
                  <a:pt x="1400" y="1400"/>
                </a:lnTo>
                <a:close/>
              </a:path>
              <a:path fill="darken" w="78035" h="21600">
                <a:moveTo>
                  <a:pt x="78035" y="0"/>
                </a:moveTo>
                <a:lnTo>
                  <a:pt x="78035" y="21600"/>
                </a:lnTo>
                <a:lnTo>
                  <a:pt x="76635" y="20200"/>
                </a:lnTo>
                <a:lnTo>
                  <a:pt x="76635" y="1400"/>
                </a:lnTo>
                <a:close/>
              </a:path>
              <a:path fill="darkenLess" w="78035" h="21600">
                <a:moveTo>
                  <a:pt x="7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35" y="20200"/>
                </a:lnTo>
                <a:close/>
              </a:path>
              <a:path fill="lighten" w="7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2930400" y="36669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2957400" y="4441680"/>
            <a:ext cx="2306880" cy="63828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35" h="21600">
                <a:moveTo>
                  <a:pt x="0" y="0"/>
                </a:moveTo>
                <a:lnTo>
                  <a:pt x="78035" y="0"/>
                </a:lnTo>
                <a:lnTo>
                  <a:pt x="78035" y="21600"/>
                </a:lnTo>
                <a:lnTo>
                  <a:pt x="0" y="21600"/>
                </a:lnTo>
                <a:close/>
              </a:path>
              <a:path fill="lightenLess" w="78035" h="21600">
                <a:moveTo>
                  <a:pt x="0" y="0"/>
                </a:moveTo>
                <a:lnTo>
                  <a:pt x="78035" y="0"/>
                </a:lnTo>
                <a:lnTo>
                  <a:pt x="76635" y="1400"/>
                </a:lnTo>
                <a:lnTo>
                  <a:pt x="1400" y="1400"/>
                </a:lnTo>
                <a:close/>
              </a:path>
              <a:path fill="darken" w="78035" h="21600">
                <a:moveTo>
                  <a:pt x="78035" y="0"/>
                </a:moveTo>
                <a:lnTo>
                  <a:pt x="78035" y="21600"/>
                </a:lnTo>
                <a:lnTo>
                  <a:pt x="76635" y="20200"/>
                </a:lnTo>
                <a:lnTo>
                  <a:pt x="76635" y="1400"/>
                </a:lnTo>
                <a:close/>
              </a:path>
              <a:path fill="darkenLess" w="78035" h="21600">
                <a:moveTo>
                  <a:pt x="7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35" y="20200"/>
                </a:lnTo>
                <a:close/>
              </a:path>
              <a:path fill="lighten" w="7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943360" y="44276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n equilateral triangle with bas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point on A  draw an arc from B above the line, about ¼ of a circ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5518080" y="4951440"/>
            <a:ext cx="287280" cy="288720"/>
            <a:chOff x="5518080" y="4951440"/>
            <a:chExt cx="287280" cy="288720"/>
          </a:xfrm>
        </p:grpSpPr>
        <p:sp>
          <p:nvSpPr>
            <p:cNvPr id="1765" name=""/>
            <p:cNvSpPr/>
            <p:nvPr/>
          </p:nvSpPr>
          <p:spPr>
            <a:xfrm>
              <a:off x="5662440" y="49514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518080" y="5095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7" name=""/>
          <p:cNvSpPr/>
          <p:nvPr/>
        </p:nvSpPr>
        <p:spPr>
          <a:xfrm>
            <a:off x="4307040" y="3730680"/>
            <a:ext cx="2698560" cy="269856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1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500"/>
                                        <p:tgtEl>
                                          <p:spTgt spid="1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0" dur="20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3" dur="2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6" dur="1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9" dur="1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572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oal of this construction is to create a line through point A that is perpendicular to the line giv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80120" y="3071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/>
          <p:nvPr/>
        </p:nvSpPr>
        <p:spPr>
          <a:xfrm>
            <a:off x="5264280" y="2787480"/>
            <a:ext cx="2698560" cy="26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point on B  draw an arc from A above the line,  It must cross the first ar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8" name=""/>
          <p:cNvGrpSpPr/>
          <p:nvPr/>
        </p:nvGrpSpPr>
        <p:grpSpPr>
          <a:xfrm>
            <a:off x="6491160" y="4008600"/>
            <a:ext cx="287280" cy="288720"/>
            <a:chOff x="6491160" y="4008600"/>
            <a:chExt cx="287280" cy="288720"/>
          </a:xfrm>
        </p:grpSpPr>
        <p:sp>
          <p:nvSpPr>
            <p:cNvPr id="1779" name=""/>
            <p:cNvSpPr/>
            <p:nvPr/>
          </p:nvSpPr>
          <p:spPr>
            <a:xfrm>
              <a:off x="6635520" y="4008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491160" y="4152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1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5276880" y="2786040"/>
            <a:ext cx="2698560" cy="269892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0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500"/>
                                        <p:tgtEl>
                                          <p:spTgt spid="1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00"/>
                            </p:stCondLst>
                            <p:childTnLst>
                              <p:par>
                                <p:cTn id="1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1" dur="500"/>
                                        <p:tgtEl>
                                          <p:spTgt spid="1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0" dur="2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3" dur="2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6" dur="1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9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"/>
          <p:cNvSpPr/>
          <p:nvPr/>
        </p:nvSpPr>
        <p:spPr>
          <a:xfrm>
            <a:off x="5264280" y="2787480"/>
            <a:ext cx="269856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the intersection of the arcs then from B to the intersection of the ar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7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flipH="1" flipV="1">
            <a:off x="5324400" y="3778200"/>
            <a:ext cx="309600" cy="13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5311800" y="3765600"/>
            <a:ext cx="131760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fill="hold">
                      <p:stCondLst>
                        <p:cond delay="0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500"/>
                            </p:stCondLst>
                            <p:childTnLst>
                              <p:par>
                                <p:cTn id="1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1" dur="500"/>
                                        <p:tgtEl>
                                          <p:spTgt spid="1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6" dur="20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2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/>
          <p:nvPr/>
        </p:nvSpPr>
        <p:spPr>
          <a:xfrm>
            <a:off x="5264280" y="2787480"/>
            <a:ext cx="269856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is an equilateral tri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1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H="1" flipV="1">
            <a:off x="5324400" y="3778200"/>
            <a:ext cx="309600" cy="13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11800" y="3765600"/>
            <a:ext cx="1317600" cy="38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n isoceles triangle with bas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B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side length 5 c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6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your compass to 5 c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1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point on A and draw an ar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5491080" y="4965840"/>
            <a:ext cx="287280" cy="288720"/>
            <a:chOff x="5491080" y="4965840"/>
            <a:chExt cx="287280" cy="288720"/>
          </a:xfrm>
        </p:grpSpPr>
        <p:sp>
          <p:nvSpPr>
            <p:cNvPr id="1831" name=""/>
            <p:cNvSpPr/>
            <p:nvPr/>
          </p:nvSpPr>
          <p:spPr>
            <a:xfrm>
              <a:off x="5635440" y="49658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491080" y="51102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3" name=""/>
          <p:cNvSpPr/>
          <p:nvPr/>
        </p:nvSpPr>
        <p:spPr>
          <a:xfrm>
            <a:off x="3584520" y="4049640"/>
            <a:ext cx="184320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7039080" y="3716280"/>
            <a:ext cx="420480" cy="19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3849840" y="3289320"/>
            <a:ext cx="3598560" cy="3598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7" dur="2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1" dur="30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4" dur="30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7" dur="2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 place the point on B and draw an ar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0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6492960" y="3992400"/>
            <a:ext cx="287280" cy="288720"/>
            <a:chOff x="6492960" y="3992400"/>
            <a:chExt cx="287280" cy="288720"/>
          </a:xfrm>
        </p:grpSpPr>
        <p:sp>
          <p:nvSpPr>
            <p:cNvPr id="1844" name=""/>
            <p:cNvSpPr/>
            <p:nvPr/>
          </p:nvSpPr>
          <p:spPr>
            <a:xfrm>
              <a:off x="6637320" y="39924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92960" y="41367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6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4835520" y="2332080"/>
            <a:ext cx="3598920" cy="35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5138640" y="2278080"/>
            <a:ext cx="314964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7039080" y="3106800"/>
            <a:ext cx="14796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584520" y="4049640"/>
            <a:ext cx="1944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4836960" y="2333520"/>
            <a:ext cx="3598920" cy="3598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2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89" dur="30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2" dur="3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5" dur="2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835520" y="2332080"/>
            <a:ext cx="3598920" cy="35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5138640" y="2278080"/>
            <a:ext cx="314964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7039080" y="3106800"/>
            <a:ext cx="14796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584520" y="4049640"/>
            <a:ext cx="1944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4992840" y="3411360"/>
            <a:ext cx="652320" cy="168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4978440" y="3411360"/>
            <a:ext cx="1625400" cy="75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the intersection of the arcs then from B to the intersection of the ar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2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2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9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4835520" y="2332080"/>
            <a:ext cx="3598920" cy="35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5138640" y="2278080"/>
            <a:ext cx="314964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039080" y="3106800"/>
            <a:ext cx="14796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584520" y="4049640"/>
            <a:ext cx="1944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4992840" y="3411360"/>
            <a:ext cx="652320" cy="168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4978440" y="3411360"/>
            <a:ext cx="1625400" cy="75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an Isoceles Triang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truct a triangle with sides 3 cm, 4 cm and 5 c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20:42:33Z</dcterms:created>
  <dc:creator>sykesr</dc:creator>
  <dc:description/>
  <dc:language>en-US</dc:language>
  <cp:lastModifiedBy>Ministry of Education</cp:lastModifiedBy>
  <dcterms:modified xsi:type="dcterms:W3CDTF">2008-08-05T02:57:43Z</dcterms:modified>
  <cp:revision>24</cp:revision>
  <dc:subject/>
  <dc:title>1.3 Construction Drawing</dc:title>
</cp:coreProperties>
</file>